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25.jpeg" ContentType="image/jpeg"/>
  <Override PartName="/ppt/media/image4.wmf" ContentType="image/x-wmf"/>
  <Override PartName="/ppt/media/image3.wmf" ContentType="image/x-wmf"/>
  <Override PartName="/ppt/media/image28.jpeg" ContentType="image/jpeg"/>
  <Override PartName="/ppt/media/image14.wmf" ContentType="image/x-wmf"/>
  <Override PartName="/ppt/media/image2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8.jpeg" ContentType="image/jpeg"/>
  <Override PartName="/ppt/media/image16.wmf" ContentType="image/x-wmf"/>
  <Override PartName="/ppt/media/image15.wmf" ContentType="image/x-wmf"/>
  <Override PartName="/ppt/media/image22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A28-E00F-4432-9377-545FD4B2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7D2-532B-4F05-955E-A8E0D541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283-38C8-4ADC-8ED9-2977677D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0E8-67E3-4591-9464-2C1B9EE8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7E2E-3C8A-40DB-8F30-D89641EE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09D6-88D3-464E-A598-A03A1DA6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13AB-D08B-448E-89D4-5CC4C511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56FC-0433-4570-B9F5-662ECED1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BD1E-6522-47AA-BE4A-631E298F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9AA2-1E3A-4EAF-92F1-97E2642E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F4F9-7647-405B-BBC8-86B0606D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4770-52A2-4F68-9510-EF40453E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C6D5-218D-40E5-8B06-292C110E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C891-3205-4364-82D8-3960480B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4593-7109-4530-9D17-8557F752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AD56-E1FC-483F-BB2A-7E353BAF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1C4D-1DC8-473A-8CA6-CE253011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343-B6B9-4AAE-AE89-F879DD19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81F-0EE8-49B4-88A5-9F23B1F7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AB8-8B57-489F-90D3-885479FE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D0C-1F4A-4E7B-93A9-B267AE07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436-9C26-4900-88A4-4244F245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179-356E-45D7-9307-247AD3F9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4BD-A254-4E85-99A9-97572831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03FB-1693-4B93-8613-B66265A262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751E-6A5A-4EBB-A1CB-C58E09AB63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372360" y="4437000"/>
            <a:ext cx="255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71640" y="1484280"/>
            <a:ext cx="7488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Изгнание серого ды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СЕРОВОДОРО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09200" y="1599840"/>
            <a:ext cx="70758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- это токсическое вещество, вызывающее острую кислородную недостаточность, приводящую к поражению нерв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30080" y="320364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 Narrow"/>
              </a:rPr>
              <a:t>АЦЕТАЛЬДЕГ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42400" y="3759120"/>
            <a:ext cx="3931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        </a:t>
            </a: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- это ядовитый п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         </a:t>
            </a: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раздражающий глаз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        </a:t>
            </a: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дыхательные пу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        </a:t>
            </a: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вызывающий удуш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        </a:t>
            </a:r>
            <a:r>
              <a:rPr b="0" i="1" lang="en-US" sz="2800" spc="-1" strike="noStrike">
                <a:solidFill>
                  <a:srgbClr val="20060e"/>
                </a:solidFill>
                <a:latin typeface="Arial Narrow"/>
              </a:rPr>
              <a:t>и головную б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РАДИОАКТИВНЫЕ ЭЛЕМЕН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Изотопы полония являются первопричиной </a:t>
            </a:r>
            <a:r>
              <a:rPr b="1" i="1" lang="en-US" sz="2700" spc="-1" strike="noStrike">
                <a:solidFill>
                  <a:srgbClr val="993300"/>
                </a:solidFill>
                <a:latin typeface="Arial Narrow"/>
              </a:rPr>
              <a:t>рака легких</a:t>
            </a: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Человек, выкуривающий в день пачку сигарет, получает дозу облучения в </a:t>
            </a:r>
            <a:r>
              <a:rPr b="1" i="1" lang="en-US" sz="2700" spc="-1" strike="noStrike">
                <a:solidFill>
                  <a:srgbClr val="993300"/>
                </a:solidFill>
                <a:latin typeface="Arial Narrow"/>
              </a:rPr>
              <a:t>3,5 раза</a:t>
            </a: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 больше дозы, принятой международным соглашением по защите от радиаци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Радиоактивный свинец и висму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расстройство сна и аппетит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нарушение деятельности желудка и кишечника повышенная раздражительность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плохая успеваемость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 Narrow"/>
              </a:rPr>
              <a:t>отставание в физическом развити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080" y="752040"/>
            <a:ext cx="699444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993300"/>
                </a:solidFill>
                <a:latin typeface="Arial Narrow"/>
              </a:rPr>
              <a:t>Нервная систем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Никотин в первой короткой фазе расширяет сосуды мозга (создает обманчивое впечатление улучшения умственной деятельности), затем резко сужают 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Отравляет клетки мозга (ухудшается память, зрение, умственная работоспособность, появляется бессонница, головные бо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Курящие ученики отстают в учебе, становятся нервными, рассеянными, ленивыми, грубыми и недисциплинирова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Развиваются нервные заболевания – невралгии, невриты, плекситы (заболевания нервных узлов – сплете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564000" y="5734080"/>
            <a:ext cx="1295280" cy="93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14400" y="2286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Arial Narrow"/>
              </a:rPr>
              <a:t>ВЛИЯНИЕ НИКОТИНА НА ЧЕЛОВЕ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993300"/>
                </a:solidFill>
                <a:latin typeface="Arial Narrow"/>
              </a:rPr>
              <a:t>Дыхательная систе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Хронические заболевания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дыхательных органов: бронхит, астма, гибель эпителия, усиленное выделение слизи, воспаление голосовых свя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Туберкулез легких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(из 100 случаев заболевания туберкулезом 95% - курильщ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Рак легких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(почти 97% больных раком – курильщ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Рак гортани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(в 6 – 10 раз больш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КРОВЕНОСНАЯ СИСТЕ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Снижается количество эритроцитов  и гемоглоби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Стенокардия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у курильщиков чаще в 13 ра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Инфаркт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миокарда чаще в 13 раз (особенно у лиц до 40лет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Острый инфаркт миокарда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( у курильщиков до 35 лет, у 80% курящих со школьной скамь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Курение способствует возникновению атеросклероза, гипертонической болезни, кровоизлияния в моз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879480" cy="129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img1.jpg (20867 bytes)"/>
          <p:cNvPicPr/>
          <p:nvPr/>
        </p:nvPicPr>
        <p:blipFill>
          <a:blip r:embed="rId2"/>
          <a:stretch/>
        </p:blipFill>
        <p:spPr>
          <a:xfrm>
            <a:off x="5148360" y="1960560"/>
            <a:ext cx="367164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9240" y="325080"/>
            <a:ext cx="720252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 Narrow"/>
              </a:rPr>
              <a:t>ПИЩЕВАРИТЕЛЬНАЯ СИСТЕМ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Развивается </a:t>
            </a:r>
            <a:r>
              <a:rPr b="1" i="1" lang="en-US" sz="2200" spc="-1" strike="noStrike">
                <a:solidFill>
                  <a:srgbClr val="993300"/>
                </a:solidFill>
                <a:latin typeface="Arial Narrow"/>
              </a:rPr>
              <a:t>кариес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Ухудшается аппетит, обоняние, вкус извращает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Возникают спазмы желудка, кишечника, кишечная непроходимость </a:t>
            </a:r>
            <a:r>
              <a:rPr b="1" i="1" lang="en-US" sz="2200" spc="-1" strike="noStrike">
                <a:solidFill>
                  <a:srgbClr val="993300"/>
                </a:solidFill>
                <a:latin typeface="Arial Narrow"/>
              </a:rPr>
              <a:t>(парез)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 кишечника ведет к смер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Развивается хронический </a:t>
            </a:r>
            <a:r>
              <a:rPr b="1" i="1" lang="en-US" sz="2200" spc="-1" strike="noStrike">
                <a:solidFill>
                  <a:srgbClr val="993300"/>
                </a:solidFill>
                <a:latin typeface="Arial Narrow"/>
              </a:rPr>
              <a:t>гастрит, колит, язвенная болезнь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 желудка и 12- перстной кишки (в 10 раз чащ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Приводит к </a:t>
            </a:r>
            <a:r>
              <a:rPr b="1" i="1" lang="en-US" sz="2200" spc="-1" strike="noStrike">
                <a:solidFill>
                  <a:srgbClr val="993300"/>
                </a:solidFill>
                <a:latin typeface="Arial Narrow"/>
              </a:rPr>
              <a:t>циррозу</a:t>
            </a: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i="1" lang="en-US" sz="2200" spc="-1" strike="noStrike">
                <a:solidFill>
                  <a:srgbClr val="993300"/>
                </a:solidFill>
                <a:latin typeface="Arial Narrow"/>
              </a:rPr>
              <a:t>печени;</a:t>
            </a: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Развивается </a:t>
            </a:r>
            <a:r>
              <a:rPr b="1" i="1" lang="en-US" sz="2200" spc="-1" strike="noStrike">
                <a:solidFill>
                  <a:srgbClr val="993300"/>
                </a:solidFill>
                <a:latin typeface="Arial Narrow"/>
              </a:rPr>
              <a:t>рак полости рта, пищевода, поджелудочной железы</a:t>
            </a: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62520" y="5334120"/>
            <a:ext cx="121896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Arial Narrow"/>
              </a:rPr>
              <a:t>ВЫДЕЛИТЕЛЬНАЯ СИСТЕМ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 Narrow"/>
              </a:rPr>
              <a:t>Развитие </a:t>
            </a:r>
            <a:r>
              <a:rPr b="1" i="1" lang="ru-RU" sz="3100" spc="-1" strike="noStrike">
                <a:solidFill>
                  <a:srgbClr val="993300"/>
                </a:solidFill>
                <a:latin typeface="Arial Narrow"/>
              </a:rPr>
              <a:t>хронических болезней почек и мочевого пузыря</a:t>
            </a:r>
            <a:r>
              <a:rPr b="0" i="1" lang="ru-RU" sz="3100" spc="-1" strike="noStrike">
                <a:solidFill>
                  <a:srgbClr val="000000"/>
                </a:solidFill>
                <a:latin typeface="Arial Narrow"/>
              </a:rPr>
              <a:t>, вплоть до рака мочевого пузыря;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 Narrow"/>
              </a:rPr>
              <a:t>(В моче образуется </a:t>
            </a:r>
            <a:r>
              <a:rPr b="1" i="1" lang="ru-RU" sz="2700" spc="-1" strike="noStrike">
                <a:solidFill>
                  <a:srgbClr val="000000"/>
                </a:solidFill>
                <a:latin typeface="Arial Narrow"/>
              </a:rPr>
              <a:t>бензапирен</a:t>
            </a:r>
            <a:r>
              <a:rPr b="0" i="1" lang="ru-RU" sz="2700" spc="-1" strike="noStrike">
                <a:solidFill>
                  <a:srgbClr val="000000"/>
                </a:solidFill>
                <a:latin typeface="Arial Narrow"/>
              </a:rPr>
              <a:t> – канцерогенное химическое соединение, вызывающее рак. Это вещество обнаруживается и у пассивных курильщиков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993300"/>
                </a:solidFill>
                <a:latin typeface="Arial Narrow"/>
              </a:rPr>
              <a:t>Рак почек</a:t>
            </a:r>
            <a:r>
              <a:rPr b="0" i="1" lang="ru-RU" sz="3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Arial Narrow"/>
              </a:rPr>
              <a:t>(встречается у курильщиков в 5 раз чаще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2520" y="5029200"/>
            <a:ext cx="9903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 Narrow"/>
              </a:rPr>
              <a:t>ОПОРНО-ДВИГАТЕЛЬНАЯ СИСТЕМ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Ухудшение кровоснабжения из–за спазма кровеносных  сосудов приводит к снижению работоспособности мышц (может привести к самопроизвольной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гангргене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онеч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Эндартериит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- перемежающая хромота, часто требующая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ампутации но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Никотин действует как яд курара, парализующий мышечную систему (страдает каждый 7 курильщик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809880" y="5105520"/>
            <a:ext cx="1284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ПОЛОВАЯ СИСТЕМ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Arial Narrow"/>
              </a:rPr>
              <a:t>МУЖ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Курение начатое в любом возрасте, отрицательно влияет на половую функ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Никотиновая интоксикация в юношеском возрасте - одна из причин будущего </a:t>
            </a:r>
            <a:r>
              <a:rPr b="1" i="1" lang="en-US" sz="2400" spc="-1" strike="noStrike">
                <a:solidFill>
                  <a:srgbClr val="993300"/>
                </a:solidFill>
                <a:latin typeface="Arial Narrow"/>
              </a:rPr>
              <a:t>бесплодия</a:t>
            </a:r>
            <a:r>
              <a:rPr b="0" i="1" lang="en-US" sz="2400" spc="-1" strike="noStrike">
                <a:solidFill>
                  <a:srgbClr val="9933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148360" y="2349360"/>
            <a:ext cx="32400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993300"/>
                </a:solidFill>
                <a:latin typeface="Arial Narrow"/>
              </a:rPr>
              <a:t>ЖЕНЩИН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Самое частое осложнение  -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выкидыш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до 36 недель в 2 раза чаще некуря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Патологии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при ро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Выше процент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мертворожденных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Чаще  других курильщицы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не могут родить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де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Курящая женщина болеет в 3-4 раза чаще, чем некурящие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30120" y="4657680"/>
            <a:ext cx="1711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00"/>
                </a:solidFill>
                <a:latin typeface="Arial Narrow"/>
              </a:rPr>
              <a:t>Рак матк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993300"/>
                </a:solidFill>
                <a:latin typeface="Arial Narrow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733920" y="4495680"/>
            <a:ext cx="2286000" cy="20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457200"/>
            <a:ext cx="8076960" cy="6019920"/>
          </a:xfrm>
          <a:prstGeom prst="verticalScroll">
            <a:avLst>
              <a:gd name="adj" fmla="val 701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«Курильщик впускает в свои уста вра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который похищает мозг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(английская народная поговор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«От курения тупеешь, оно несовместимо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творческой работ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И.Г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«Табак … неизбежно ослабляет энерг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Оноре де Бальз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3300"/>
                </a:solidFill>
                <a:latin typeface="Arial Narrow"/>
              </a:rPr>
              <a:t>ВОЗДЕЙСТВИЕ ДРУГИЕ СИСТЕМЫ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“</a:t>
            </a: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Кожа” –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преждевременное старение кожи, сухость, землистый оттенок, бледность,  морщины, дряблость. Кожа теряет свою эластичность и свежесть. Женщины-курильщицы в 25 лет выглядят намного старше ровесни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“</a:t>
            </a: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Железы внутренней секреции”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 – нарушаются нормальные функции всех желез, развивается сахарный диаб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“</a:t>
            </a:r>
            <a:r>
              <a:rPr b="0" i="1" lang="en-US" sz="2200" spc="-1" strike="noStrike">
                <a:solidFill>
                  <a:srgbClr val="993300"/>
                </a:solidFill>
                <a:latin typeface="Arial Narrow"/>
              </a:rPr>
              <a:t>Обмен веществ” –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 снижается, развивается витаминная недостаточ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67080" y="5638680"/>
            <a:ext cx="99072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3300"/>
                </a:solidFill>
                <a:latin typeface="Arial Narrow"/>
              </a:rPr>
              <a:t>КУРЕНИЕ И ЗАРОЖДАЮЩИЙСЯ ОРГАНИЗМ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4000" y="155700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Никотин (через плаценту) поступает в </a:t>
            </a:r>
            <a:r>
              <a:rPr b="1" i="1" lang="ru-RU" sz="2000" spc="-1" strike="noStrike">
                <a:solidFill>
                  <a:srgbClr val="993300"/>
                </a:solidFill>
                <a:latin typeface="Arial Narrow"/>
              </a:rPr>
              <a:t>сердце и мозг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еще не родившегос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У курящих матерей чаще бывают </a:t>
            </a:r>
            <a:r>
              <a:rPr b="1" i="1" lang="ru-RU" sz="2000" spc="-1" strike="noStrike">
                <a:solidFill>
                  <a:srgbClr val="993300"/>
                </a:solidFill>
                <a:latin typeface="Arial Narrow"/>
              </a:rPr>
              <a:t>мертворождения, преждевременные роды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Новорожденные имеют </a:t>
            </a:r>
            <a:r>
              <a:rPr b="1" i="1" lang="ru-RU" sz="2000" spc="-1" strike="noStrike">
                <a:solidFill>
                  <a:srgbClr val="993300"/>
                </a:solidFill>
                <a:latin typeface="Arial Narrow"/>
              </a:rPr>
              <a:t>меньше нормы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: размер головы и плечевой пояс, вес на 100 – 300 гр, рост на 2,5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Наблюдаются </a:t>
            </a:r>
            <a:r>
              <a:rPr b="1" i="1" lang="ru-RU" sz="2000" spc="-1" strike="noStrike">
                <a:solidFill>
                  <a:srgbClr val="993300"/>
                </a:solidFill>
                <a:latin typeface="Arial Narrow"/>
              </a:rPr>
              <a:t>различные пороки развития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, вплоть до уро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81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ДЕТИ КУРИЛЬЩИ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Грудное молоко матери-курильщицы может быть причиной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отравле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новорожд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Описаны случаи «беспричинной»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смерти 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грудных детей, находящихся в задымленном поме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Доказано: дети курящих женщин примерно до 11 лет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отстают в физическом и умственном разви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У курящих матерей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почти всегда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дети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пробуют курить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. Мать заранее запрограммировала своего ребенка на те же м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В семье, где курили родители, начинают курить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67%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мальчиков и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78%</a:t>
            </a: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дев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Люди, которые в детском возрасте подвергались воздействию табачного дыма, но сами курить не начали, все равно имеют повышенный шанс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(до 60%) заболеть ра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урение мешает успешным занятиям спо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Ослабление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памяти и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понижение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онцентрации в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Отстают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в физическом и интеллектуальном развитии от своих сверс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Развивается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неврозоподобный синдром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, выражающийся в постоянной головной боли, усиливающейся при умственной работе, быстрой утомляемости и пониженной работоспосо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Расстройство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сна и аппет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92360" y="4653000"/>
            <a:ext cx="41036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9240" y="325080"/>
            <a:ext cx="72025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ДЕВУШКАМ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От курения станет хриплым твой г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Постепенно почернеют, испортятся з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Кожа лица постепенно приобретет землистый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Резко ухудшаются обоняние, вкусовые ка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Запах изо рта настолько неприятен, что не удивляйся, если знакомые парни будут тебя избег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Ты будешь просыпаться с горечью во рту и головными болями оттого, что всю ночь кашля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Курящая девушка представляет собой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временную забаву, закурив, ты удешевляешь себя, унижаешь свое достоинство, делаясь легкомысленной и более доступной. И только твоя молодость не дает увидеть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катастрофу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, тебя ожидающ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993300"/>
                </a:solidFill>
                <a:latin typeface="Arial Narrow"/>
              </a:rPr>
              <a:t>Курящие люди дольше сохраняют стройную фигуру?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241740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Кругом полно дымящих толстя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Притупляя сигаретой чувство голода, вы провоцируете развитие гастрита и язвенной боле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Худеть с помощью курения – это все равно что привить себе инфекционную болезнь и “таять на глазах” от 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941400" cy="1295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365560" y="384120"/>
            <a:ext cx="491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 Narrow"/>
              </a:rPr>
              <a:t>МИФЫ О КУР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993300"/>
                </a:solidFill>
                <a:latin typeface="Arial Narrow"/>
              </a:rPr>
              <a:t>Курево успокаивает нервы?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Компоненты табака (смолы, никотин, дым и т.д.) не расслабляют, а просто “тормозят” важнейшие участки центральной нервной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Привыкнув к сигарете, человек без нее уже расслабиться не мож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Получается замкнутый круг: и возникновение, и прекращение стресса зависят от ку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62520" y="4800600"/>
            <a:ext cx="18288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993300"/>
                </a:solidFill>
                <a:latin typeface="Arial Narrow"/>
              </a:rPr>
              <a:t>На морозе сигарета согревает?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0060e"/>
                </a:solidFill>
                <a:latin typeface="Arial Narrow"/>
              </a:rPr>
              <a:t>Табачный дым создает кратковременный согревающий эффект (содержащиеся в нем яды сужают сосуды, увеличивают частоту пульса и повышают кровяное дав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3300"/>
                </a:solidFill>
                <a:latin typeface="Arial Narrow"/>
              </a:rPr>
              <a:t>Стоит ли так "“греться"” чтобы получить взамен как минимум гиперто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9880" y="5275440"/>
            <a:ext cx="13716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3300"/>
                </a:solidFill>
                <a:latin typeface="Arial Narrow"/>
              </a:rPr>
              <a:t>Сигареты с пометкой “легкие” не так вредны, как обычные…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0060e"/>
                </a:solidFill>
                <a:latin typeface="Arial Narrow"/>
              </a:rPr>
              <a:t>Постоянно используя легкие сигареты, курильщики затягиваются чаще и глубже, что может привести к заболеванию раком не самих легких, а так называемой </a:t>
            </a:r>
            <a:r>
              <a:rPr b="1" i="1" lang="en-US" sz="2400" spc="-1" strike="noStrike">
                <a:solidFill>
                  <a:srgbClr val="993300"/>
                </a:solidFill>
                <a:latin typeface="Arial Narrow"/>
              </a:rPr>
              <a:t>легочной периферии</a:t>
            </a:r>
            <a:r>
              <a:rPr b="0" i="1" lang="en-US" sz="2400" spc="-1" strike="noStrike">
                <a:solidFill>
                  <a:srgbClr val="20060e"/>
                </a:solidFill>
                <a:latin typeface="Arial Narrow"/>
              </a:rPr>
              <a:t> – альвеол и малых брон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343400" y="4495680"/>
            <a:ext cx="857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i="1" lang="en-US" sz="3400" spc="-1" strike="noStrike">
                <a:solidFill>
                  <a:srgbClr val="993300"/>
                </a:solidFill>
                <a:latin typeface="Arial Narrow"/>
              </a:rPr>
              <a:t>Бросить курить, постепенно уменьшая дозу никотина, невозможно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74400" y="2514240"/>
            <a:ext cx="734076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060e"/>
                </a:solidFill>
                <a:latin typeface="Arial Narrow"/>
              </a:rPr>
              <a:t>Вместо того чтобы выкуривать не 10, а 5 сигарет в день, лучше пройти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заместительную никотинотерапию</a:t>
            </a:r>
            <a:r>
              <a:rPr b="0" i="1" lang="ru-RU" sz="2400" spc="-1" strike="noStrike">
                <a:solidFill>
                  <a:srgbClr val="20060e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0060e"/>
                </a:solidFill>
                <a:latin typeface="Arial Narrow"/>
              </a:rPr>
              <a:t>(в первое время после отказа от курения в организм вводят определенную дозу никотина, снижая выраженность синдрома отме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114800" y="5257800"/>
            <a:ext cx="1739880" cy="1281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975760" y="167652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СЛОЖНО… но м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92468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Выяснить воздействие курения на орга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человека, вызываемые  им болезни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возможные послед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569880"/>
            <a:ext cx="4267440" cy="825120"/>
          </a:xfrm>
          <a:prstGeom prst="rect">
            <a:avLst/>
          </a:prstGeom>
          <a:solidFill>
            <a:srgbClr val="ffffe1"/>
          </a:solidFill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 Narrow"/>
              </a:rPr>
              <a:t>ЦЕЛЬ</a:t>
            </a:r>
            <a:r>
              <a:rPr b="0" lang="en-US" sz="4800" spc="-1" strike="noStrike">
                <a:solidFill>
                  <a:srgbClr val="993300"/>
                </a:solidFill>
                <a:latin typeface="Arial Narrow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993300"/>
                </a:solidFill>
                <a:latin typeface="Arial Narrow"/>
              </a:rPr>
              <a:t>ВЫВОД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796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Болезни, возникающей только  от  курения не существу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 Narrow"/>
              </a:rPr>
              <a:t>НО…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 продукты курения и в первую очередь никотин, ведут к развитию серьезных и разнообразных заболеваний (тяжелые бронхиты, эмфизема, туберкулез, рак легких, атеросклероз, эндартериит, гипертония, ишемическая болезнь сердца, инфаркт миокарда, рак желудка и другие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амять, умственные способности у курильщика резко снижаются, что ведет к отставанию в развитии от своих не курящих сверс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Организм курильщика изнашивается и стареет значительно раньше, чем организм некуря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ухие циф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1476360" y="1484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 данным Всемирной Организации Здравоохран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200400" y="2133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ЖЕГОДНО УМИР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олния 5"/>
          <p:cNvSpPr/>
          <p:nvPr/>
        </p:nvSpPr>
        <p:spPr>
          <a:xfrm rot="6952200">
            <a:off x="2717280" y="3168720"/>
            <a:ext cx="2021040" cy="3636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олния 6"/>
          <p:cNvSpPr/>
          <p:nvPr/>
        </p:nvSpPr>
        <p:spPr>
          <a:xfrm rot="2856600">
            <a:off x="4148280" y="3139560"/>
            <a:ext cx="2020680" cy="363600"/>
          </a:xfrm>
          <a:prstGeom prst="lightningBolt">
            <a:avLst/>
          </a:prstGeom>
          <a:solidFill>
            <a:srgbClr val="f41d0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7" descr="Бутылка.JPG"/>
          <p:cNvPicPr/>
          <p:nvPr/>
        </p:nvPicPr>
        <p:blipFill>
          <a:blip r:embed="rId1"/>
          <a:stretch/>
        </p:blipFill>
        <p:spPr>
          <a:xfrm>
            <a:off x="5867280" y="3701880"/>
            <a:ext cx="371520" cy="10764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8" descr="Сигарета.JPG"/>
          <p:cNvPicPr/>
          <p:nvPr/>
        </p:nvPicPr>
        <p:blipFill>
          <a:blip r:embed="rId2"/>
          <a:stretch/>
        </p:blipFill>
        <p:spPr>
          <a:xfrm>
            <a:off x="2362320" y="4191120"/>
            <a:ext cx="514080" cy="6001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9"/>
          <p:cNvSpPr/>
          <p:nvPr/>
        </p:nvSpPr>
        <p:spPr>
          <a:xfrm>
            <a:off x="1042920" y="479736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 миллиона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чело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т кур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495680" y="4876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6 миллионо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человек от алкоголиз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380880" y="5638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огнозируется, что в 2020 году от курения погибнут око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 миллионов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человек в возрасте от 30 до 40 л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6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500"/>
                            </p:stCondLst>
                            <p:childTnLst>
                              <p:par>
                                <p:cTn id="6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3500"/>
                            </p:stCondLst>
                            <p:childTnLst>
                              <p:par>
                                <p:cTn id="6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000"/>
                            </p:stCondLst>
                            <p:childTnLst>
                              <p:par>
                                <p:cTn id="7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7000"/>
                            </p:stCondLst>
                            <p:childTnLst>
                              <p:par>
                                <p:cTn id="7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ак губ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6" name="Содержимое 3" descr="9_рак губы.jpg"/>
          <p:cNvPicPr/>
          <p:nvPr/>
        </p:nvPicPr>
        <p:blipFill>
          <a:blip r:embed="rId1"/>
          <a:stretch/>
        </p:blipFill>
        <p:spPr>
          <a:xfrm>
            <a:off x="2620800" y="1600200"/>
            <a:ext cx="435960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егкие здорового человека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 курильщи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8" name="Содержимое 3" descr="11_легкие курильщика.jpg"/>
          <p:cNvPicPr/>
          <p:nvPr/>
        </p:nvPicPr>
        <p:blipFill>
          <a:blip r:embed="rId1"/>
          <a:stretch/>
        </p:blipFill>
        <p:spPr>
          <a:xfrm>
            <a:off x="4684680" y="3048120"/>
            <a:ext cx="4125960" cy="35179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10_легкие здоровые.jpg"/>
          <p:cNvPicPr/>
          <p:nvPr/>
        </p:nvPicPr>
        <p:blipFill>
          <a:blip r:embed="rId2"/>
          <a:stretch/>
        </p:blipFill>
        <p:spPr>
          <a:xfrm>
            <a:off x="380880" y="1752480"/>
            <a:ext cx="4013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отив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1" name="Содержимое 3" descr="12_мотивы.JPG"/>
          <p:cNvPicPr/>
          <p:nvPr/>
        </p:nvPicPr>
        <p:blipFill>
          <a:blip r:embed="rId1"/>
          <a:stretch/>
        </p:blipFill>
        <p:spPr>
          <a:xfrm>
            <a:off x="1589040" y="1600200"/>
            <a:ext cx="642312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ащита от угроз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3" name="Содержимое 3" descr="13_защита от угрозы.JPG"/>
          <p:cNvPicPr/>
          <p:nvPr/>
        </p:nvPicPr>
        <p:blipFill>
          <a:blip r:embed="rId1"/>
          <a:stretch/>
        </p:blipFill>
        <p:spPr>
          <a:xfrm>
            <a:off x="1582560" y="1600200"/>
            <a:ext cx="643608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Шаг к здоровью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5" name="Содержимое 3" descr="15_шаг к здоровью.JPG"/>
          <p:cNvPicPr/>
          <p:nvPr/>
        </p:nvPicPr>
        <p:blipFill>
          <a:blip r:embed="rId1"/>
          <a:stretch/>
        </p:blipFill>
        <p:spPr>
          <a:xfrm>
            <a:off x="1590840" y="1600200"/>
            <a:ext cx="641952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оставляющие здоровь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7" name="Содержимое 3" descr="2_3 составляющие здоровья.JPG"/>
          <p:cNvPicPr/>
          <p:nvPr/>
        </p:nvPicPr>
        <p:blipFill>
          <a:blip r:embed="rId1"/>
          <a:stretch/>
        </p:blipFill>
        <p:spPr>
          <a:xfrm>
            <a:off x="1600200" y="1600200"/>
            <a:ext cx="640080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лементы ЗОЖ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9" name="Содержимое 3" descr="4_ЗОЖ.JPG"/>
          <p:cNvPicPr/>
          <p:nvPr/>
        </p:nvPicPr>
        <p:blipFill>
          <a:blip r:embed="rId1"/>
          <a:stretch/>
        </p:blipFill>
        <p:spPr>
          <a:xfrm>
            <a:off x="1600200" y="1600200"/>
            <a:ext cx="640080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144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img2.jpg (15310 bytes)"/>
          <p:cNvPicPr/>
          <p:nvPr/>
        </p:nvPicPr>
        <p:blipFill>
          <a:blip r:embed="rId1"/>
          <a:stretch/>
        </p:blipFill>
        <p:spPr>
          <a:xfrm>
            <a:off x="250920" y="0"/>
            <a:ext cx="842472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042920" y="404640"/>
            <a:ext cx="7129440" cy="86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урение - медленное самоубийств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Скажи себе : «Не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екращать дурные привычки надо сраз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нятия спортом укрепляют волю, делают человека бодрым, здоровым, отвлекают его от вредных накло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Человек с сильной волей никогда не начнет кур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 причин, связанных с употреблением таба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умирает каждый пят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Вдумайтесь в эти цифры и факты. Здоровье не куп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Горящая сигарета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71200"/>
            <a:ext cx="80773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это химическая фабрика, продуцирующая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4000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соединений, в их числе более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40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анцерогенов и </a:t>
            </a:r>
            <a:r>
              <a:rPr b="1" i="1" lang="ru-RU" sz="2800" spc="-1" strike="noStrike">
                <a:solidFill>
                  <a:srgbClr val="993300"/>
                </a:solidFill>
                <a:latin typeface="Arial Narrow"/>
              </a:rPr>
              <a:t>12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окаканцерог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КАНЦЕРОГЕН - ракообразовывающ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КОКАКАНЦЕРОГЕН – вещество, усиливающее воз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4120" y="2997360"/>
            <a:ext cx="20098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Брось сигарету! Табачный д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он химических яд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Брось сигарету – тебе говор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бя отравлять не над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200988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Счастье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Мы желаем счастья Вам...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620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Arial Narrow"/>
              </a:rPr>
              <a:t>Что содержится в сигарет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В дыме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одной сигареты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содержи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6 мг никотина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1,6 мг аммиака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25 мг угарного газа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0,03 мг синильной кислоты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0,5 мг пиридина, формальдегид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 Narrow"/>
              </a:rPr>
              <a:t>радиактивные вещества: полоний, свинец, висмут, смолы и деготь и др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Значительная часть уходит в окружающую сре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Дым сигарет вреден окружаю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Каждая сигарета отнимает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от 5 до 15 минут жиз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20</a:t>
            </a:r>
            <a:r>
              <a:rPr b="0" i="1" lang="ru-RU" sz="2400" spc="-1" strike="noStrike">
                <a:solidFill>
                  <a:srgbClr val="000000"/>
                </a:solidFill>
                <a:latin typeface="Arial Narrow"/>
              </a:rPr>
              <a:t> ежедневно выкуриваемых сигарет сокращает жизнь на </a:t>
            </a:r>
            <a:r>
              <a:rPr b="1" i="1" lang="ru-RU" sz="2400" spc="-1" strike="noStrike">
                <a:solidFill>
                  <a:srgbClr val="993300"/>
                </a:solidFill>
                <a:latin typeface="Arial Narrow"/>
              </a:rPr>
              <a:t>8-12 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15200" y="2254320"/>
            <a:ext cx="129528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НИКОТИ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Возбуждает центральную нервную систем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Спазм кровеносных сосудов, ухудшение кровоснабжения клеток моз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Повышает артериальное давление крови и увеличивает работу сердц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В целом создает субъективные ощущения повышения работоспособ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84680" y="5257800"/>
            <a:ext cx="736488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Никотин - это наркотик. А это означ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что с каждым годом тебе будет все трудне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9240" y="325080"/>
            <a:ext cx="72025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АММИА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Раздражает слизистые оболочки вызывая боли в желуд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Происходит </a:t>
            </a:r>
            <a:r>
              <a:rPr b="1" i="1" lang="en-US" sz="3000" spc="-1" strike="noStrike">
                <a:solidFill>
                  <a:srgbClr val="993300"/>
                </a:solidFill>
                <a:latin typeface="Arial Narrow"/>
              </a:rPr>
              <a:t>слезотечение,</a:t>
            </a: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 повышенное отделение </a:t>
            </a:r>
            <a:r>
              <a:rPr b="1" i="1" lang="en-US" sz="3000" spc="-1" strike="noStrike">
                <a:solidFill>
                  <a:srgbClr val="993300"/>
                </a:solidFill>
                <a:latin typeface="Arial Narrow"/>
              </a:rPr>
              <a:t>мокроты</a:t>
            </a:r>
            <a:r>
              <a:rPr b="1" i="1" lang="en-US" sz="30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Вызывает </a:t>
            </a:r>
            <a:r>
              <a:rPr b="1" i="1" lang="en-US" sz="3000" spc="-1" strike="noStrike">
                <a:solidFill>
                  <a:srgbClr val="993300"/>
                </a:solidFill>
                <a:latin typeface="Arial Narrow"/>
              </a:rPr>
              <a:t>удушье, головокружение</a:t>
            </a: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 Narrow"/>
              </a:rPr>
              <a:t>Снижается сопротивляемость легких к инфекционным заболеваниям, в частности к </a:t>
            </a:r>
            <a:r>
              <a:rPr b="1" i="1" lang="en-US" sz="3000" spc="-1" strike="noStrike">
                <a:solidFill>
                  <a:srgbClr val="993300"/>
                </a:solidFill>
                <a:latin typeface="Arial Narrow"/>
              </a:rPr>
              <a:t>туберкулез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(Из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100 случаев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заболеваний туберкулеза -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95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 приходится на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курильщи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7960" y="325080"/>
            <a:ext cx="72043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СИНИЛЬНАЯ КИСЛ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Легко проникает в кровь (снижает способность клеток воспринимать кислород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Первыми страдают </a:t>
            </a: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нервные клетки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При большой дозе проявляется отравление: за сильнейшим возбуждением ЦНС наступает </a:t>
            </a:r>
            <a:r>
              <a:rPr b="1" i="1" lang="en-US" sz="2800" spc="-1" strike="noStrike">
                <a:solidFill>
                  <a:srgbClr val="993300"/>
                </a:solidFill>
                <a:latin typeface="Arial Narrow"/>
              </a:rPr>
              <a:t>паралич, останавливается дыхание а,                    затем и  серд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56320" y="4457880"/>
            <a:ext cx="6969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Arial Narrow"/>
              </a:rPr>
              <a:t>МЕТАНО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1520" y="1755360"/>
            <a:ext cx="70740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- это очень ядовитое вещество, вызывающее тяжелое </a:t>
            </a:r>
            <a:r>
              <a:rPr b="0" i="1" lang="en-US" sz="2800" spc="-1" strike="noStrike">
                <a:solidFill>
                  <a:srgbClr val="993300"/>
                </a:solidFill>
                <a:latin typeface="Arial Narrow"/>
              </a:rPr>
              <a:t>отравление, слепоту, смер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46440"/>
            <a:ext cx="37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 Narrow"/>
              </a:rPr>
              <a:t>ФОРМАЛЬДЕГ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20880" y="3276720"/>
            <a:ext cx="776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- это ядовитое вещество, вызывающее боль в     груди, </a:t>
            </a:r>
            <a:r>
              <a:rPr b="0" i="1" lang="ru-RU" sz="2800" spc="-1" strike="noStrike">
                <a:solidFill>
                  <a:srgbClr val="993300"/>
                </a:solidFill>
                <a:latin typeface="Arial Narrow"/>
              </a:rPr>
              <a:t>кашель,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i="1" lang="ru-RU" sz="2800" spc="-1" strike="noStrike">
                <a:solidFill>
                  <a:srgbClr val="993300"/>
                </a:solidFill>
                <a:latin typeface="Arial Narrow"/>
              </a:rPr>
              <a:t>бронхит, коньюктивит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, сильные </a:t>
            </a:r>
            <a:r>
              <a:rPr b="0" i="1" lang="ru-RU" sz="2800" spc="-1" strike="noStrike">
                <a:solidFill>
                  <a:srgbClr val="993300"/>
                </a:solidFill>
                <a:latin typeface="Arial Narrow"/>
              </a:rPr>
              <a:t>отеки 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кож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15:54Z</dcterms:created>
  <dc:creator>www.PHILka.RU</dc:creator>
  <dc:description/>
  <dc:language>en-US</dc:language>
  <cp:lastModifiedBy>Admin</cp:lastModifiedBy>
  <dcterms:modified xsi:type="dcterms:W3CDTF">2010-11-12T10:08:44Z</dcterms:modified>
  <cp:revision>11</cp:revision>
  <dc:subject/>
  <dc:title>Слайд 1</dc:title>
</cp:coreProperties>
</file>