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0A2-0081-44E6-8780-83018159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C96-4B0E-4B53-B839-89F986CD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243-CF69-47A4-9D67-8160C8CB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1C7-3A06-4591-A4CE-2323FDD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0CF-7797-42BA-A8A4-D22274B1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8EC2-EE11-4AE5-8827-02C651B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2AB-05DE-4ACD-B9CB-4FEB8E43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3900-CCB9-4750-A667-0791F0B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1B8-4D7C-40E3-A0BC-F7E8372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E982-DFF8-4065-AC08-B2FA64B4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032-F4AC-4720-9DB4-45799AB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487-123F-4229-A6A8-29F1B82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2F9-0327-438F-88E0-9D637DF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19DB-04EA-402E-B4ED-6EECD340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3BA-D94A-4570-A017-27995B3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916-4988-4767-89FF-EC88B6F7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31FB-7AC5-4239-B835-738BC68D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CCE-1C0B-45AE-BB6C-41EC7789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C85-2725-4C0E-A895-FAB0715A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1F6-8588-458E-89F4-A4E30FB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345-85ED-44C6-8FF2-3D66D8E8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505-7996-49F6-9207-233161A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29D-75AB-42BF-B47F-660AD8F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059-357F-4502-AECE-EC1C57E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A78-DFBD-46B9-9690-696FCA006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B78E-2AF6-4931-963C-4CDF773E1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67820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ПРАВИЛА БЕЗОПАСТНОГО СЕКСУАЛЬНОГО ПОВЕДЕН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377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Воздержание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ерживаться от сексуальных контактов – это не «детство», не «патология» и не «глупость». Это разумное, взрослое желание взять время на размышление. Существует достаточно возможностей получать удовольствие и доставлять его любимому человеку, не занимаясь сексом. Это поцелуи, взаимные объятия, забота друг о дру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Верност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 хранить верность своему партнеру. Это не означает, что одну неделю или месяц человек «верен» одному партнеру, а следующую  неделю или месяц – другому. Чем реже мы меняем половых партнеров, тем  ниже риск заражения ВИЧ и другими ИПП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Использование презерватив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 использовать презерватив  при каждом сексуальном контакте – от начала и до конца полового акта. Даже будучи уверенным в своем любимом человеке и его верности на все  сто процентов, нельзя пренебрегать правилами безопасного секса – партнер  может быть заражен ВИЧ и даже не знать об э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Забота о своем здоровье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жде чем вступать в сексуальные отношения, партнерам следует пройти медицинское обследование, включая тесты на   ВИЧ и другие ИППП, и в дальнейшем повторять его регуляр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ИГ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ИГМА - "ярлык",  "клеймо"- сильный социальный стереотип, меняющий отношение к другим и самому себе, заставляющий относиться к человеку, только как к носителю нежелательного качества. Стигма – это  мифы и ярлыки, приводящие к негативным предрассудкам, особому отношению к представителям той или иной группы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общество, считая какое-то отличие важным, приписывает людям с этим отличием негативные черты и разделяет по этому признаку людей на "нас" и "их", речь идет о стиг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СКРИМИН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КРИМИНАЦИЯ -  Ограничение или лишение определенных групп людей каких-либо прав или возможностей только из-за их принадлежности к этим группам. Может происходить как на уровне различных социальных групп, так и на уровне государ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ЕРЕОТИП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РЕОТИПЫ - это неправомочные обобщения, которые мы делаем относительно тех, о ком мы мало знаем. Человеческий мозг устроен таким образом, что он постоянно классифицирует все, что встречает в реальности. Когда у нас не хватает информации о каком-то предмете или человеке, мы относим его к определенной категории и приписываем ему определенные кач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9:09:50Z</dcterms:created>
  <dc:creator>Dell</dc:creator>
  <dc:description/>
  <dc:language>en-US</dc:language>
  <cp:lastModifiedBy>Dell</cp:lastModifiedBy>
  <dcterms:modified xsi:type="dcterms:W3CDTF">2010-11-25T19:19:48Z</dcterms:modified>
  <cp:revision>1</cp:revision>
  <dc:subject/>
  <dc:title>Слайд 1</dc:title>
</cp:coreProperties>
</file>