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D888E-1D24-4160-9CA9-4C1D74E159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25C6B-3DDC-43E8-9D4E-F54EA64313D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349280" y="874800"/>
            <a:ext cx="4164120" cy="31226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388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C223-126B-46B7-9C03-F50A352A8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7E5A-2ACD-4EC1-8805-D70AC1539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7946-E487-4669-8C9A-96BECE987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D43C-300E-4763-91AB-9D48C738E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E0168-5DF9-41A0-B913-6A6A6B0B5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E47D4-1C79-4A3B-83CC-F5EABE5A3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1DDBF-9259-496C-BC5A-2FABEDF46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EE502-CB5D-49D8-8981-B8A964998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08D3E-FA4E-4A58-869C-4045653A6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043E0-4CC5-477D-A959-8061A52ED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831B7-4D3B-43DA-BAEC-BD1E1566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403F-5772-4FC4-960D-98DAD201B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279E1-9C7A-4193-959F-8A78149E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87A1D-FA5A-47E3-84CF-84D0FA9C8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071AD-9A86-462E-953D-0C7FAA4FB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59966-79D1-4596-A08E-85A51E2FD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C3ABE-4803-4962-9121-35807A4FC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2474-001E-4A6B-AC28-CAF58148C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3548-4528-4F66-B278-AC9ABC292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FF0D-E336-418F-BC32-602B21910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A245-39B8-44CE-8B2E-1AD105A3E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5F09-C772-411C-81A8-6EBCF5FF3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8389-0C29-4802-92CC-976ABD10A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BD54-42D7-464A-B4F8-257773B8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42DDC-FCE7-4270-A146-0044C79BEC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F6357-EDFD-431B-8913-531C4B42546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24000" y="476280"/>
            <a:ext cx="84960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МЕДИЦИНСКИЕ АСПЕКТЫ ВИЧ-ИНФЕК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ипотезы происхождения ВИЧ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вооткрыватели ВИЧ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троение ВИЧ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накомство с работой иммунной систем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ействие ВИЧ на иммунную систем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ути передачи ВИЧ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линические проявления ВИЧ-инфекци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тадии заболева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иагностика ВИЧ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ечение ВИЧ, перспективы вакцинопрофилакти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91600"/>
            <a:ext cx="914400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СХЕМА РАБОТЫ ИММУННОЙ СИСТЕМ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900000" y="1052640"/>
            <a:ext cx="3240360" cy="1728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ДОЗОРНЫЙ БЛО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AutoShape 4"/>
          <p:cNvSpPr/>
          <p:nvPr/>
        </p:nvSpPr>
        <p:spPr>
          <a:xfrm rot="2295600">
            <a:off x="1547280" y="3068280"/>
            <a:ext cx="648000" cy="504720"/>
          </a:xfrm>
          <a:prstGeom prst="rightArrow">
            <a:avLst>
              <a:gd name="adj1" fmla="val 22852"/>
              <a:gd name="adj2" fmla="val 47854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AutoShape 5"/>
          <p:cNvSpPr/>
          <p:nvPr/>
        </p:nvSpPr>
        <p:spPr>
          <a:xfrm rot="18469200">
            <a:off x="6661080" y="3715920"/>
            <a:ext cx="647640" cy="504720"/>
          </a:xfrm>
          <a:prstGeom prst="rightArrow">
            <a:avLst>
              <a:gd name="adj1" fmla="val 22852"/>
              <a:gd name="adj2" fmla="val 4782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AutoShape 6"/>
          <p:cNvSpPr/>
          <p:nvPr/>
        </p:nvSpPr>
        <p:spPr>
          <a:xfrm rot="1422000">
            <a:off x="4140360" y="4869000"/>
            <a:ext cx="647640" cy="504720"/>
          </a:xfrm>
          <a:prstGeom prst="rightArrow">
            <a:avLst>
              <a:gd name="adj1" fmla="val 22852"/>
              <a:gd name="adj2" fmla="val 4782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395280" y="3933720"/>
            <a:ext cx="3168720" cy="1728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БЛОК ИДЕНТИФИК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ХРАНЕНИЯ ИНФОРМ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5148360" y="4581360"/>
            <a:ext cx="3240000" cy="1729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БЛОК ПОИС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И 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АКТИВИЗАЦ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УНИЧТОЖ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Rectangle 9"/>
          <p:cNvSpPr/>
          <p:nvPr/>
        </p:nvSpPr>
        <p:spPr>
          <a:xfrm>
            <a:off x="5580000" y="1557360"/>
            <a:ext cx="3240000" cy="1728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БЛОК КИЛЛЕР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500"/>
                            </p:stCondLst>
                            <p:childTnLst>
                              <p:par>
                                <p:cTn id="9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Клетки дозорного блока, как пограничники, следят за тем, чтобы в организм не проникло ничего вредного, чужеродного. Они знают лишь то, что для организма полезно. Если в организм проникает что-либо, не относящееся к категории полезного, они стараются сразу уничтожить это, если им это не удается, они бьют тревогу и подключают блок №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Блок №2, в свою очередь, начинает исследование проникшей инфекции. он сравнивает ее с теми инфекциями, информация о которых была получена либо с генной памятью от родителей, либо в процессе жизни данного человека. Если инфекцию не удается идентифицировать с чем-то уже знакомым, то она исследуется, и информация о ней заносится в память как информация о новой инфекции. Собрав все данные о том, что это за инфекция и из чего она состоит, блок №2 передает эту информацию блоку №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Блок №3 – самый главный блок иммунной системы. Его клетки, получив информацию об инфекции, начинают на ее основе производить специальные поисковые белки-маячки – антитела. Антитела приспособлены к поиску только определенной инфекции, которая проникла в организм, т. е. они высокоспецифичны. Для борьбы с каждой инфекцией вырабатываются специальные, отличные от других, антитела. Отыскав вирус, антитело прикрепляется к его поверхности и начинает сигнализировать клеткам блока №4, что «чужой» найден и находится там-то и там-т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Именно в блоке №3 находятся клетки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D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4, которые ВИЧ использует для своего размножения. Соответственно, чем больше инфекции в организме, тем больше требуется антител для их пометки; чем больше требуется антител, тем больше будет произведено клеток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D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4 для их выработки. Но! Чем больше будет этих клеток, тем больше мишеней появиться для вируса. Следовательно, находясь в крови, вирус имеет больше шансов столкнуться с нужной ему клеткой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D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4 и заразить ее, чем встретить клетку-погранични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Ориентируясь на сигналы антител, клетки блока киллеров находят инфекцию и уничтожают е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80848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СХЕМА ДЕЙСТВИЯ ВИЧ НА КЛЕТКИ И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Picture 3" descr="схема"/>
          <p:cNvPicPr/>
          <p:nvPr/>
        </p:nvPicPr>
        <p:blipFill>
          <a:blip r:embed="rId1"/>
          <a:stretch/>
        </p:blipFill>
        <p:spPr>
          <a:xfrm>
            <a:off x="250920" y="549360"/>
            <a:ext cx="8532720" cy="6048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1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Organization Chart 7"/>
          <p:cNvGrpSpPr/>
          <p:nvPr/>
        </p:nvGrpSpPr>
        <p:grpSpPr>
          <a:xfrm>
            <a:off x="755640" y="549360"/>
            <a:ext cx="7632000" cy="3023280"/>
            <a:chOff x="755640" y="549360"/>
            <a:chExt cx="7632000" cy="3023280"/>
          </a:xfrm>
        </p:grpSpPr>
        <p:cxnSp>
          <p:nvCxnSpPr>
            <p:cNvPr id="201" name="_s1028"/>
            <p:cNvCxnSpPr>
              <a:stCxn id="202" idx="0"/>
              <a:endCxn id="203" idx="2"/>
            </p:cNvCxnSpPr>
            <p:nvPr/>
          </p:nvCxnSpPr>
          <p:spPr>
            <a:xfrm flipV="1" rot="16200000">
              <a:off x="5604480" y="724320"/>
              <a:ext cx="605160" cy="2671920"/>
            </a:xfrm>
            <a:prstGeom prst="bentConnector3">
              <a:avLst>
                <a:gd name="adj1" fmla="val 1279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04" name="_s1029"/>
            <p:cNvCxnSpPr>
              <a:stCxn id="205" idx="0"/>
              <a:endCxn id="203" idx="2"/>
            </p:cNvCxnSpPr>
            <p:nvPr/>
          </p:nvCxnSpPr>
          <p:spPr>
            <a:xfrm flipV="1">
              <a:off x="4571640" y="1757880"/>
              <a:ext cx="3600" cy="605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06" name="_s1030"/>
            <p:cNvCxnSpPr>
              <a:stCxn id="207" idx="0"/>
              <a:endCxn id="203" idx="2"/>
            </p:cNvCxnSpPr>
            <p:nvPr/>
          </p:nvCxnSpPr>
          <p:spPr>
            <a:xfrm flipH="1" flipV="1" rot="5400000">
              <a:off x="2933640" y="724680"/>
              <a:ext cx="605160" cy="2671920"/>
            </a:xfrm>
            <a:prstGeom prst="bentConnector3">
              <a:avLst>
                <a:gd name="adj1" fmla="val 1279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03" name="_s1031"/>
            <p:cNvSpPr/>
            <p:nvPr/>
          </p:nvSpPr>
          <p:spPr>
            <a:xfrm>
              <a:off x="3426840" y="549360"/>
              <a:ext cx="2289600" cy="12092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00"/>
                  </a:solidFill>
                  <a:latin typeface="Arial"/>
                </a:rPr>
                <a:t>Путь передачи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00"/>
                  </a:solidFill>
                  <a:latin typeface="Arial"/>
                </a:rPr>
                <a:t>ВИЧ-инфекции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_s1032"/>
            <p:cNvSpPr/>
            <p:nvPr/>
          </p:nvSpPr>
          <p:spPr>
            <a:xfrm>
              <a:off x="755640" y="2363400"/>
              <a:ext cx="2289600" cy="12092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00"/>
                  </a:solidFill>
                  <a:latin typeface="Arial"/>
                </a:rPr>
                <a:t>парентеральный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_s1033"/>
            <p:cNvSpPr/>
            <p:nvPr/>
          </p:nvSpPr>
          <p:spPr>
            <a:xfrm>
              <a:off x="3426840" y="2363400"/>
              <a:ext cx="2289600" cy="12092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00"/>
                  </a:solidFill>
                  <a:latin typeface="Arial"/>
                </a:rPr>
                <a:t>половой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_s1034"/>
            <p:cNvSpPr/>
            <p:nvPr/>
          </p:nvSpPr>
          <p:spPr>
            <a:xfrm>
              <a:off x="6098040" y="2363400"/>
              <a:ext cx="2289600" cy="12092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00"/>
                  </a:solidFill>
                  <a:latin typeface="Arial"/>
                </a:rPr>
                <a:t>вертикальный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8" name="AutoShape 18"/>
          <p:cNvSpPr/>
          <p:nvPr/>
        </p:nvSpPr>
        <p:spPr>
          <a:xfrm>
            <a:off x="684360" y="3860640"/>
            <a:ext cx="2303280" cy="194472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19"/>
          <p:cNvSpPr/>
          <p:nvPr/>
        </p:nvSpPr>
        <p:spPr>
          <a:xfrm>
            <a:off x="3564000" y="3860640"/>
            <a:ext cx="2016000" cy="18734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AutoShape 20"/>
          <p:cNvSpPr/>
          <p:nvPr/>
        </p:nvSpPr>
        <p:spPr>
          <a:xfrm>
            <a:off x="6372360" y="3860640"/>
            <a:ext cx="1944720" cy="18734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22"/>
          <p:cNvSpPr/>
          <p:nvPr/>
        </p:nvSpPr>
        <p:spPr>
          <a:xfrm>
            <a:off x="826920" y="4005360"/>
            <a:ext cx="216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00"/>
                </a:solidFill>
                <a:latin typeface="Arial"/>
              </a:rPr>
              <a:t>Инфицированная донорская кровь – вероятность заражения – 100%;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00"/>
                </a:solidFill>
                <a:latin typeface="Arial"/>
              </a:rPr>
              <a:t>(среднестатистическая распространенность – 1-5% 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00"/>
                </a:solidFill>
                <a:latin typeface="Arial"/>
              </a:rPr>
              <a:t>Совместное использование инструментария для введения наркотиков – 90% (5-10%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24"/>
          <p:cNvSpPr/>
          <p:nvPr/>
        </p:nvSpPr>
        <p:spPr>
          <a:xfrm>
            <a:off x="3924360" y="4005360"/>
            <a:ext cx="1295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25"/>
          <p:cNvSpPr/>
          <p:nvPr/>
        </p:nvSpPr>
        <p:spPr>
          <a:xfrm>
            <a:off x="3780000" y="4149720"/>
            <a:ext cx="172872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00"/>
                </a:solidFill>
                <a:latin typeface="Arial"/>
              </a:rPr>
              <a:t>Половой контакт с ВИЧ-инфицированным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00"/>
                </a:solidFill>
                <a:latin typeface="Arial"/>
              </a:rPr>
              <a:t>вероятность передачи – 0,25-1%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00"/>
                </a:solidFill>
                <a:latin typeface="Arial"/>
              </a:rPr>
              <a:t>(среднестатистическая распространенность – 70-90%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27"/>
          <p:cNvSpPr/>
          <p:nvPr/>
        </p:nvSpPr>
        <p:spPr>
          <a:xfrm>
            <a:off x="6516720" y="3933720"/>
            <a:ext cx="165564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00"/>
                </a:solidFill>
                <a:latin typeface="Arial"/>
              </a:rPr>
              <a:t>От ВИЧ-инфицированной матери ребенку вероятность передачи – 25-40%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00"/>
                </a:solidFill>
                <a:latin typeface="Arial"/>
              </a:rPr>
              <a:t>(средняя статистическая распространенность – 10-15%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Line 28"/>
          <p:cNvSpPr/>
          <p:nvPr/>
        </p:nvSpPr>
        <p:spPr>
          <a:xfrm>
            <a:off x="7308720" y="3573360"/>
            <a:ext cx="0" cy="28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Line 29"/>
          <p:cNvSpPr/>
          <p:nvPr/>
        </p:nvSpPr>
        <p:spPr>
          <a:xfrm>
            <a:off x="4572000" y="3573360"/>
            <a:ext cx="0" cy="28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Line 30"/>
          <p:cNvSpPr/>
          <p:nvPr/>
        </p:nvSpPr>
        <p:spPr>
          <a:xfrm>
            <a:off x="1908000" y="3573360"/>
            <a:ext cx="0" cy="28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Organization Chart 6"/>
          <p:cNvGrpSpPr/>
          <p:nvPr/>
        </p:nvGrpSpPr>
        <p:grpSpPr>
          <a:xfrm>
            <a:off x="582480" y="765000"/>
            <a:ext cx="7909920" cy="3026880"/>
            <a:chOff x="582480" y="765000"/>
            <a:chExt cx="7909920" cy="3026880"/>
          </a:xfrm>
        </p:grpSpPr>
        <p:cxnSp>
          <p:nvCxnSpPr>
            <p:cNvPr id="219" name="_s2052"/>
            <p:cNvCxnSpPr>
              <a:stCxn id="220" idx="0"/>
              <a:endCxn id="221" idx="2"/>
            </p:cNvCxnSpPr>
            <p:nvPr/>
          </p:nvCxnSpPr>
          <p:spPr>
            <a:xfrm flipV="1" rot="16200000">
              <a:off x="5299200" y="1212840"/>
              <a:ext cx="605880" cy="2129760"/>
            </a:xfrm>
            <a:prstGeom prst="bentConnector3">
              <a:avLst>
                <a:gd name="adj1" fmla="val 1884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22" name="_s2053"/>
            <p:cNvCxnSpPr>
              <a:stCxn id="223" idx="0"/>
              <a:endCxn id="221" idx="2"/>
            </p:cNvCxnSpPr>
            <p:nvPr/>
          </p:nvCxnSpPr>
          <p:spPr>
            <a:xfrm flipH="1" flipV="1" rot="5400000">
              <a:off x="3169800" y="1212840"/>
              <a:ext cx="605880" cy="2130480"/>
            </a:xfrm>
            <a:prstGeom prst="bentConnector3">
              <a:avLst>
                <a:gd name="adj1" fmla="val 18846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21" name="_s2054"/>
            <p:cNvSpPr/>
            <p:nvPr/>
          </p:nvSpPr>
          <p:spPr>
            <a:xfrm>
              <a:off x="2712240" y="765000"/>
              <a:ext cx="3650760" cy="121068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Парентеральный путь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передач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_s2055"/>
            <p:cNvSpPr/>
            <p:nvPr/>
          </p:nvSpPr>
          <p:spPr>
            <a:xfrm>
              <a:off x="582480" y="2581200"/>
              <a:ext cx="3650760" cy="121068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Медицинский путь передач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_s2056"/>
            <p:cNvSpPr/>
            <p:nvPr/>
          </p:nvSpPr>
          <p:spPr>
            <a:xfrm>
              <a:off x="4841640" y="2581200"/>
              <a:ext cx="3650760" cy="121068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Инъекционное введение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наркотико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4" name="AutoShape 14"/>
          <p:cNvSpPr/>
          <p:nvPr/>
        </p:nvSpPr>
        <p:spPr>
          <a:xfrm>
            <a:off x="468360" y="4221000"/>
            <a:ext cx="863640" cy="1584360"/>
          </a:xfrm>
          <a:custGeom>
            <a:avLst/>
            <a:gdLst>
              <a:gd name="textAreaLeft" fmla="*/ 42120 w 863640"/>
              <a:gd name="textAreaRight" fmla="*/ 821520 w 863640"/>
              <a:gd name="textAreaTop" fmla="*/ 42120 h 1584360"/>
              <a:gd name="textAreaBottom" fmla="*/ 1542240 h 1584360"/>
            </a:gdLst>
            <a:ahLst/>
            <a:rect l="textAreaLeft" t="textAreaTop" r="textAreaRight" b="textAreaBottom"/>
            <a:pathLst>
              <a:path w="21600" h="39618">
                <a:moveTo>
                  <a:pt x="3600" y="0"/>
                </a:moveTo>
                <a:arcTo wR="3600" hR="3600" stAng="16200000" swAng="-5400000"/>
                <a:lnTo>
                  <a:pt x="0" y="36018"/>
                </a:lnTo>
                <a:arcTo wR="3600" hR="3600" stAng="10800000" swAng="-5400000"/>
                <a:lnTo>
                  <a:pt x="18000" y="39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6"/>
          <p:cNvSpPr/>
          <p:nvPr/>
        </p:nvSpPr>
        <p:spPr>
          <a:xfrm>
            <a:off x="539640" y="4365720"/>
            <a:ext cx="86364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00"/>
                </a:solidFill>
                <a:latin typeface="Arial"/>
              </a:rPr>
              <a:t>Использо-вание необрабо-танного медицин-ского инструме-нтария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AutoShape 17"/>
          <p:cNvSpPr/>
          <p:nvPr/>
        </p:nvSpPr>
        <p:spPr>
          <a:xfrm>
            <a:off x="1692360" y="4221000"/>
            <a:ext cx="863640" cy="1584360"/>
          </a:xfrm>
          <a:custGeom>
            <a:avLst/>
            <a:gdLst>
              <a:gd name="textAreaLeft" fmla="*/ 42120 w 863640"/>
              <a:gd name="textAreaRight" fmla="*/ 821520 w 863640"/>
              <a:gd name="textAreaTop" fmla="*/ 42120 h 1584360"/>
              <a:gd name="textAreaBottom" fmla="*/ 1542240 h 1584360"/>
            </a:gdLst>
            <a:ahLst/>
            <a:rect l="textAreaLeft" t="textAreaTop" r="textAreaRight" b="textAreaBottom"/>
            <a:pathLst>
              <a:path w="21600" h="39618">
                <a:moveTo>
                  <a:pt x="3600" y="0"/>
                </a:moveTo>
                <a:arcTo wR="3600" hR="3600" stAng="16200000" swAng="-5400000"/>
                <a:lnTo>
                  <a:pt x="0" y="36018"/>
                </a:lnTo>
                <a:arcTo wR="3600" hR="3600" stAng="10800000" swAng="-5400000"/>
                <a:lnTo>
                  <a:pt x="18000" y="39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19"/>
          <p:cNvSpPr/>
          <p:nvPr/>
        </p:nvSpPr>
        <p:spPr>
          <a:xfrm>
            <a:off x="1692360" y="4365720"/>
            <a:ext cx="863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00"/>
                </a:solidFill>
                <a:latin typeface="Arial"/>
              </a:rPr>
              <a:t>Перелива-ние инфициро-ванной донорской крови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20"/>
          <p:cNvSpPr/>
          <p:nvPr/>
        </p:nvSpPr>
        <p:spPr>
          <a:xfrm>
            <a:off x="2916360" y="4221000"/>
            <a:ext cx="934920" cy="1584360"/>
          </a:xfrm>
          <a:custGeom>
            <a:avLst/>
            <a:gdLst>
              <a:gd name="textAreaLeft" fmla="*/ 45360 w 934920"/>
              <a:gd name="textAreaRight" fmla="*/ 889560 w 934920"/>
              <a:gd name="textAreaTop" fmla="*/ 45360 h 1584360"/>
              <a:gd name="textAreaBottom" fmla="*/ 1539000 h 1584360"/>
            </a:gdLst>
            <a:ahLst/>
            <a:rect l="textAreaLeft" t="textAreaTop" r="textAreaRight" b="textAreaBottom"/>
            <a:pathLst>
              <a:path w="21600" h="36599">
                <a:moveTo>
                  <a:pt x="3600" y="0"/>
                </a:moveTo>
                <a:arcTo wR="3600" hR="3600" stAng="16200000" swAng="-5400000"/>
                <a:lnTo>
                  <a:pt x="0" y="32999"/>
                </a:lnTo>
                <a:arcTo wR="3600" hR="3600" stAng="10800000" swAng="-5400000"/>
                <a:lnTo>
                  <a:pt x="18000" y="365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22"/>
          <p:cNvSpPr/>
          <p:nvPr/>
        </p:nvSpPr>
        <p:spPr>
          <a:xfrm>
            <a:off x="2987640" y="4292640"/>
            <a:ext cx="86364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00"/>
                </a:solidFill>
                <a:latin typeface="Arial"/>
              </a:rPr>
              <a:t>Транспла-нтация инфициро-ванных донорских органов, тканей, жидкостей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Line 27"/>
          <p:cNvSpPr/>
          <p:nvPr/>
        </p:nvSpPr>
        <p:spPr>
          <a:xfrm>
            <a:off x="900000" y="3789360"/>
            <a:ext cx="0" cy="431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Line 30"/>
          <p:cNvSpPr/>
          <p:nvPr/>
        </p:nvSpPr>
        <p:spPr>
          <a:xfrm>
            <a:off x="2124000" y="3789360"/>
            <a:ext cx="0" cy="431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Line 32"/>
          <p:cNvSpPr/>
          <p:nvPr/>
        </p:nvSpPr>
        <p:spPr>
          <a:xfrm>
            <a:off x="3348000" y="3789360"/>
            <a:ext cx="0" cy="431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Organization Chart 6"/>
          <p:cNvGrpSpPr/>
          <p:nvPr/>
        </p:nvGrpSpPr>
        <p:grpSpPr>
          <a:xfrm>
            <a:off x="582480" y="596880"/>
            <a:ext cx="7909920" cy="2942280"/>
            <a:chOff x="582480" y="596880"/>
            <a:chExt cx="7909920" cy="2942280"/>
          </a:xfrm>
        </p:grpSpPr>
        <p:cxnSp>
          <p:nvCxnSpPr>
            <p:cNvPr id="234" name="_s3076"/>
            <p:cNvCxnSpPr>
              <a:stCxn id="235" idx="0"/>
              <a:endCxn id="236" idx="2"/>
            </p:cNvCxnSpPr>
            <p:nvPr/>
          </p:nvCxnSpPr>
          <p:spPr>
            <a:xfrm flipV="1" rot="16200000">
              <a:off x="5307840" y="1002600"/>
              <a:ext cx="588960" cy="2129760"/>
            </a:xfrm>
            <a:prstGeom prst="bentConnector3">
              <a:avLst>
                <a:gd name="adj1" fmla="val 1614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37" name="_s3077"/>
            <p:cNvCxnSpPr>
              <a:stCxn id="238" idx="0"/>
              <a:endCxn id="236" idx="2"/>
            </p:cNvCxnSpPr>
            <p:nvPr/>
          </p:nvCxnSpPr>
          <p:spPr>
            <a:xfrm flipH="1" flipV="1" rot="5400000">
              <a:off x="3178080" y="1002600"/>
              <a:ext cx="588960" cy="2130480"/>
            </a:xfrm>
            <a:prstGeom prst="bentConnector3">
              <a:avLst>
                <a:gd name="adj1" fmla="val 16146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36" name="_s3078"/>
            <p:cNvSpPr/>
            <p:nvPr/>
          </p:nvSpPr>
          <p:spPr>
            <a:xfrm>
              <a:off x="2712240" y="596880"/>
              <a:ext cx="3650760" cy="11768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Половой путь передач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_s3079"/>
            <p:cNvSpPr/>
            <p:nvPr/>
          </p:nvSpPr>
          <p:spPr>
            <a:xfrm>
              <a:off x="582480" y="2362320"/>
              <a:ext cx="3650760" cy="11768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Гомосексуальный контакт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_s3080"/>
            <p:cNvSpPr/>
            <p:nvPr/>
          </p:nvSpPr>
          <p:spPr>
            <a:xfrm>
              <a:off x="4841640" y="2362320"/>
              <a:ext cx="3650760" cy="11768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Гетеросексуальный контакт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9" name="AutoShape 14"/>
          <p:cNvSpPr/>
          <p:nvPr/>
        </p:nvSpPr>
        <p:spPr>
          <a:xfrm>
            <a:off x="395280" y="4005360"/>
            <a:ext cx="1440000" cy="122400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6"/>
          <p:cNvSpPr/>
          <p:nvPr/>
        </p:nvSpPr>
        <p:spPr>
          <a:xfrm>
            <a:off x="539640" y="4365720"/>
            <a:ext cx="115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Анальны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сек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AutoShape 17"/>
          <p:cNvSpPr/>
          <p:nvPr/>
        </p:nvSpPr>
        <p:spPr>
          <a:xfrm>
            <a:off x="2411280" y="4005360"/>
            <a:ext cx="1368720" cy="122400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19"/>
          <p:cNvSpPr/>
          <p:nvPr/>
        </p:nvSpPr>
        <p:spPr>
          <a:xfrm>
            <a:off x="2556000" y="4365720"/>
            <a:ext cx="1079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Оральны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сек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AutoShape 22"/>
          <p:cNvSpPr/>
          <p:nvPr/>
        </p:nvSpPr>
        <p:spPr>
          <a:xfrm>
            <a:off x="4716360" y="4005360"/>
            <a:ext cx="1079640" cy="1224000"/>
          </a:xfrm>
          <a:custGeom>
            <a:avLst/>
            <a:gdLst>
              <a:gd name="textAreaLeft" fmla="*/ 52560 w 1079640"/>
              <a:gd name="textAreaRight" fmla="*/ 1027080 w 1079640"/>
              <a:gd name="textAreaTop" fmla="*/ 52560 h 1224000"/>
              <a:gd name="textAreaBottom" fmla="*/ 1171440 h 1224000"/>
            </a:gdLst>
            <a:ahLst/>
            <a:rect l="textAreaLeft" t="textAreaTop" r="textAreaRight" b="textAreaBottom"/>
            <a:pathLst>
              <a:path w="21600" h="24487">
                <a:moveTo>
                  <a:pt x="3600" y="0"/>
                </a:moveTo>
                <a:arcTo wR="3600" hR="3600" stAng="16200000" swAng="-5400000"/>
                <a:lnTo>
                  <a:pt x="0" y="20887"/>
                </a:lnTo>
                <a:arcTo wR="3600" hR="3600" stAng="10800000" swAng="-5400000"/>
                <a:lnTo>
                  <a:pt x="18000" y="244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25"/>
          <p:cNvSpPr/>
          <p:nvPr/>
        </p:nvSpPr>
        <p:spPr>
          <a:xfrm>
            <a:off x="4788000" y="4365720"/>
            <a:ext cx="936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Анальны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сек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AutoShape 26"/>
          <p:cNvSpPr/>
          <p:nvPr/>
        </p:nvSpPr>
        <p:spPr>
          <a:xfrm>
            <a:off x="6156360" y="4005360"/>
            <a:ext cx="1152360" cy="1224000"/>
          </a:xfrm>
          <a:custGeom>
            <a:avLst/>
            <a:gdLst>
              <a:gd name="textAreaLeft" fmla="*/ 56160 w 1152360"/>
              <a:gd name="textAreaRight" fmla="*/ 1096200 w 1152360"/>
              <a:gd name="textAreaTop" fmla="*/ 56160 h 1224000"/>
              <a:gd name="textAreaBottom" fmla="*/ 1167840 h 1224000"/>
            </a:gdLst>
            <a:ahLst/>
            <a:rect l="textAreaLeft" t="textAreaTop" r="textAreaRight" b="textAreaBottom"/>
            <a:pathLst>
              <a:path w="21600" h="22942">
                <a:moveTo>
                  <a:pt x="3600" y="0"/>
                </a:moveTo>
                <a:arcTo wR="3600" hR="3600" stAng="16200000" swAng="-5400000"/>
                <a:lnTo>
                  <a:pt x="0" y="19342"/>
                </a:lnTo>
                <a:arcTo wR="3600" hR="3600" stAng="10800000" swAng="-5400000"/>
                <a:lnTo>
                  <a:pt x="18000" y="229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28"/>
          <p:cNvSpPr/>
          <p:nvPr/>
        </p:nvSpPr>
        <p:spPr>
          <a:xfrm>
            <a:off x="6156360" y="4365720"/>
            <a:ext cx="115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Вагинальны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сек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AutoShape 29"/>
          <p:cNvSpPr/>
          <p:nvPr/>
        </p:nvSpPr>
        <p:spPr>
          <a:xfrm>
            <a:off x="7667640" y="4005360"/>
            <a:ext cx="1081080" cy="1224000"/>
          </a:xfrm>
          <a:custGeom>
            <a:avLst/>
            <a:gdLst>
              <a:gd name="textAreaLeft" fmla="*/ 52560 w 1081080"/>
              <a:gd name="textAreaRight" fmla="*/ 1028520 w 1081080"/>
              <a:gd name="textAreaTop" fmla="*/ 52560 h 1224000"/>
              <a:gd name="textAreaBottom" fmla="*/ 1171440 h 1224000"/>
            </a:gdLst>
            <a:ahLst/>
            <a:rect l="textAreaLeft" t="textAreaTop" r="textAreaRight" b="textAreaBottom"/>
            <a:pathLst>
              <a:path w="21600" h="24455">
                <a:moveTo>
                  <a:pt x="3600" y="0"/>
                </a:moveTo>
                <a:arcTo wR="3600" hR="3600" stAng="16200000" swAng="-5400000"/>
                <a:lnTo>
                  <a:pt x="0" y="20855"/>
                </a:lnTo>
                <a:arcTo wR="3600" hR="3600" stAng="10800000" swAng="-5400000"/>
                <a:lnTo>
                  <a:pt x="18000" y="244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32"/>
          <p:cNvSpPr/>
          <p:nvPr/>
        </p:nvSpPr>
        <p:spPr>
          <a:xfrm>
            <a:off x="7667640" y="4365720"/>
            <a:ext cx="1008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Оральны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сек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38"/>
          <p:cNvSpPr/>
          <p:nvPr/>
        </p:nvSpPr>
        <p:spPr>
          <a:xfrm>
            <a:off x="808200" y="5589720"/>
            <a:ext cx="5779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00"/>
                </a:solidFill>
                <a:uFillTx/>
                <a:latin typeface="Arial"/>
              </a:rPr>
              <a:t>Примечание</a:t>
            </a:r>
            <a:r>
              <a:rPr b="1" lang="ru-RU" sz="1000" spc="-1" strike="noStrike">
                <a:solidFill>
                  <a:srgbClr val="ffff00"/>
                </a:solidFill>
                <a:latin typeface="Arial"/>
              </a:rPr>
              <a:t>:     по степени риска:   </a:t>
            </a:r>
            <a:r>
              <a:rPr b="1" i="1" lang="ru-RU" sz="1000" spc="-1" strike="noStrike">
                <a:solidFill>
                  <a:srgbClr val="ffff00"/>
                </a:solidFill>
                <a:latin typeface="Arial"/>
              </a:rPr>
              <a:t>самый опасный – анальный секс;                 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</a:t>
            </a:r>
            <a:r>
              <a:rPr b="1" i="1" lang="ru-RU" sz="1000" spc="-1" strike="noStrike">
                <a:solidFill>
                  <a:srgbClr val="ffff00"/>
                </a:solidFill>
                <a:latin typeface="Arial"/>
              </a:rPr>
              <a:t>высокая степень риска – вагинальный секс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</a:t>
            </a:r>
            <a:r>
              <a:rPr b="1" i="1" lang="ru-RU" sz="1000" spc="-1" strike="noStrike">
                <a:solidFill>
                  <a:srgbClr val="ffff00"/>
                </a:solidFill>
                <a:latin typeface="Arial"/>
              </a:rPr>
              <a:t>менее опасный – оральный секс.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Line 48"/>
          <p:cNvSpPr/>
          <p:nvPr/>
        </p:nvSpPr>
        <p:spPr>
          <a:xfrm>
            <a:off x="1258920" y="3573360"/>
            <a:ext cx="0" cy="432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ine 49"/>
          <p:cNvSpPr/>
          <p:nvPr/>
        </p:nvSpPr>
        <p:spPr>
          <a:xfrm>
            <a:off x="3132000" y="3573360"/>
            <a:ext cx="0" cy="432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50"/>
          <p:cNvSpPr/>
          <p:nvPr/>
        </p:nvSpPr>
        <p:spPr>
          <a:xfrm>
            <a:off x="5292720" y="3573360"/>
            <a:ext cx="0" cy="432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52"/>
          <p:cNvSpPr/>
          <p:nvPr/>
        </p:nvSpPr>
        <p:spPr>
          <a:xfrm>
            <a:off x="6732720" y="3573360"/>
            <a:ext cx="0" cy="432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53"/>
          <p:cNvSpPr/>
          <p:nvPr/>
        </p:nvSpPr>
        <p:spPr>
          <a:xfrm>
            <a:off x="8101080" y="3573360"/>
            <a:ext cx="0" cy="432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Organization Chart 6"/>
          <p:cNvGrpSpPr/>
          <p:nvPr/>
        </p:nvGrpSpPr>
        <p:grpSpPr>
          <a:xfrm>
            <a:off x="582480" y="739800"/>
            <a:ext cx="7909920" cy="4235400"/>
            <a:chOff x="582480" y="739800"/>
            <a:chExt cx="7909920" cy="4235400"/>
          </a:xfrm>
        </p:grpSpPr>
        <p:cxnSp>
          <p:nvCxnSpPr>
            <p:cNvPr id="256" name="_s4100"/>
            <p:cNvCxnSpPr>
              <a:stCxn id="257" idx="0"/>
              <a:endCxn id="258" idx="2"/>
            </p:cNvCxnSpPr>
            <p:nvPr/>
          </p:nvCxnSpPr>
          <p:spPr>
            <a:xfrm flipV="1" rot="16200000">
              <a:off x="5497560" y="1472400"/>
              <a:ext cx="847800" cy="2769120"/>
            </a:xfrm>
            <a:prstGeom prst="bentConnector3">
              <a:avLst>
                <a:gd name="adj1" fmla="val 977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59" name="_s4101"/>
            <p:cNvCxnSpPr>
              <a:stCxn id="260" idx="0"/>
              <a:endCxn id="258" idx="2"/>
            </p:cNvCxnSpPr>
            <p:nvPr/>
          </p:nvCxnSpPr>
          <p:spPr>
            <a:xfrm flipV="1">
              <a:off x="4537440" y="2433240"/>
              <a:ext cx="3600" cy="8478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61" name="_s4102"/>
            <p:cNvCxnSpPr>
              <a:stCxn id="262" idx="0"/>
              <a:endCxn id="258" idx="2"/>
            </p:cNvCxnSpPr>
            <p:nvPr/>
          </p:nvCxnSpPr>
          <p:spPr>
            <a:xfrm flipH="1" flipV="1" rot="5400000">
              <a:off x="2729160" y="1472760"/>
              <a:ext cx="847800" cy="2769120"/>
            </a:xfrm>
            <a:prstGeom prst="bentConnector3">
              <a:avLst>
                <a:gd name="adj1" fmla="val 977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58" name="_s4103"/>
            <p:cNvSpPr/>
            <p:nvPr/>
          </p:nvSpPr>
          <p:spPr>
            <a:xfrm>
              <a:off x="3350880" y="739800"/>
              <a:ext cx="2372760" cy="169416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00"/>
                  </a:solidFill>
                  <a:latin typeface="Arial"/>
                </a:rPr>
                <a:t>Вертикальный путь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ffff00"/>
                  </a:solidFill>
                  <a:latin typeface="Arial"/>
                </a:rPr>
                <a:t>передачи вируса от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00"/>
                  </a:solidFill>
                  <a:latin typeface="Arial"/>
                </a:rPr>
                <a:t>матери к ребенку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_s4104"/>
            <p:cNvSpPr/>
            <p:nvPr/>
          </p:nvSpPr>
          <p:spPr>
            <a:xfrm>
              <a:off x="582480" y="3281040"/>
              <a:ext cx="2372760" cy="169416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ffff00"/>
                  </a:solidFill>
                  <a:latin typeface="Arial"/>
                </a:rPr>
                <a:t>Во время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ffff00"/>
                  </a:solidFill>
                  <a:latin typeface="Arial"/>
                </a:rPr>
                <a:t>беременности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ffff00"/>
                  </a:solidFill>
                  <a:latin typeface="Arial"/>
                </a:rPr>
                <a:t>(трансплацентарно)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_s4105"/>
            <p:cNvSpPr/>
            <p:nvPr/>
          </p:nvSpPr>
          <p:spPr>
            <a:xfrm>
              <a:off x="3350880" y="3281040"/>
              <a:ext cx="2372760" cy="169416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00"/>
                  </a:solidFill>
                  <a:latin typeface="Arial"/>
                </a:rPr>
                <a:t>Во время родов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1700" spc="-1" strike="noStrike">
                  <a:solidFill>
                    <a:srgbClr val="ffff00"/>
                  </a:solidFill>
                  <a:latin typeface="Arial"/>
                </a:rPr>
                <a:t>(при прохождении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00"/>
                  </a:solidFill>
                  <a:latin typeface="Arial"/>
                </a:rPr>
                <a:t>через родовые пути)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_s4106"/>
            <p:cNvSpPr/>
            <p:nvPr/>
          </p:nvSpPr>
          <p:spPr>
            <a:xfrm>
              <a:off x="6119640" y="3281040"/>
              <a:ext cx="2372760" cy="169416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00"/>
                  </a:solidFill>
                  <a:latin typeface="Arial"/>
                </a:rPr>
                <a:t>При кормлении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00"/>
                  </a:solidFill>
                  <a:latin typeface="Arial"/>
                </a:rPr>
                <a:t>грудью(при наличии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00"/>
                  </a:solidFill>
                  <a:latin typeface="Arial"/>
                </a:rPr>
                <a:t>язвочек, трещин на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00"/>
                  </a:solidFill>
                  <a:latin typeface="Arial"/>
                </a:rPr>
                <a:t>сосках и в ротовой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1700" spc="-1" strike="noStrike">
                  <a:solidFill>
                    <a:srgbClr val="ffff00"/>
                  </a:solidFill>
                  <a:latin typeface="Arial"/>
                </a:rPr>
                <a:t>полости ребенка)</a:t>
              </a: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3" name="Text Box 15"/>
          <p:cNvSpPr/>
          <p:nvPr/>
        </p:nvSpPr>
        <p:spPr>
          <a:xfrm>
            <a:off x="1458360" y="5178600"/>
            <a:ext cx="58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00"/>
                </a:solidFill>
                <a:uFillTx/>
                <a:latin typeface="Arial"/>
              </a:rPr>
              <a:t>Примечание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:  </a:t>
            </a:r>
            <a:r>
              <a:rPr b="1" i="1" lang="ru-RU" sz="1200" spc="-1" strike="noStrike">
                <a:solidFill>
                  <a:srgbClr val="ffff00"/>
                </a:solidFill>
                <a:latin typeface="Arial"/>
              </a:rPr>
              <a:t>Риск инфицирования новорожденного составляет 30-35%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4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СТАДИИ ВИЧ-ИНФЕКЦ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стадия – острая инфек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I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стадия – асимптомная инфекция (АИ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II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стадия – персистирующая генерализованная лимфаденопатия (ПГЛ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V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стадия – преСПИД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стадия – собственно СПИД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9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9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9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9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4000"/>
                            </p:stCondLst>
                            <p:childTnLst>
                              <p:par>
                                <p:cTn id="15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900" fill="hold"/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Object 2"/>
          <p:cNvGraphicFramePr/>
          <p:nvPr/>
        </p:nvGraphicFramePr>
        <p:xfrm>
          <a:off x="755640" y="981000"/>
          <a:ext cx="7596360" cy="439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981000"/>
                    <a:ext cx="7596360" cy="43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68" name="Group 3"/>
          <p:cNvGrpSpPr/>
          <p:nvPr/>
        </p:nvGrpSpPr>
        <p:grpSpPr>
          <a:xfrm>
            <a:off x="1764000" y="5157720"/>
            <a:ext cx="1255320" cy="628200"/>
            <a:chOff x="1764000" y="5157720"/>
            <a:chExt cx="1255320" cy="628200"/>
          </a:xfrm>
        </p:grpSpPr>
        <p:sp>
          <p:nvSpPr>
            <p:cNvPr id="269" name="AutoShape 4"/>
            <p:cNvSpPr/>
            <p:nvPr/>
          </p:nvSpPr>
          <p:spPr>
            <a:xfrm rot="16200000">
              <a:off x="2199960" y="4973760"/>
              <a:ext cx="333360" cy="701280"/>
            </a:xfrm>
            <a:custGeom>
              <a:avLst/>
              <a:gdLst>
                <a:gd name="textAreaLeft" fmla="*/ 213120 w 333360"/>
                <a:gd name="textAreaRight" fmla="*/ 333720 w 333360"/>
                <a:gd name="textAreaTop" fmla="*/ 18360 h 701280"/>
                <a:gd name="textAreaBottom" fmla="*/ 682920 h 70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11"/>
                    <a:pt x="10800" y="1822"/>
                  </a:cubicBezTo>
                  <a:lnTo>
                    <a:pt x="10800" y="8631"/>
                  </a:lnTo>
                  <a:cubicBezTo>
                    <a:pt x="10800" y="9542"/>
                    <a:pt x="5400" y="10453"/>
                    <a:pt x="0" y="10453"/>
                  </a:cubicBezTo>
                  <a:cubicBezTo>
                    <a:pt x="5400" y="10453"/>
                    <a:pt x="10800" y="11364"/>
                    <a:pt x="10800" y="12275"/>
                  </a:cubicBezTo>
                  <a:lnTo>
                    <a:pt x="10800" y="19778"/>
                  </a:lnTo>
                  <a:cubicBezTo>
                    <a:pt x="10800" y="20689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Text Box 5"/>
            <p:cNvSpPr/>
            <p:nvPr/>
          </p:nvSpPr>
          <p:spPr>
            <a:xfrm>
              <a:off x="1764000" y="5478840"/>
              <a:ext cx="1255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eded8e"/>
                  </a:solidFill>
                  <a:latin typeface="Arial"/>
                </a:rPr>
                <a:t>Фаза </a:t>
              </a:r>
              <a:r>
                <a:rPr b="1" lang="en-US" sz="1400" spc="-1" strike="noStrike">
                  <a:solidFill>
                    <a:srgbClr val="eded8e"/>
                  </a:solidFill>
                  <a:latin typeface="Arial"/>
                </a:rPr>
                <a:t>“</a:t>
              </a:r>
              <a:r>
                <a:rPr b="1" lang="ru-RU" sz="1400" spc="-1" strike="noStrike">
                  <a:solidFill>
                    <a:srgbClr val="eded8e"/>
                  </a:solidFill>
                  <a:latin typeface="Arial"/>
                </a:rPr>
                <a:t>окна</a:t>
              </a:r>
              <a:r>
                <a:rPr b="1" lang="en-US" sz="1400" spc="-1" strike="noStrike">
                  <a:solidFill>
                    <a:srgbClr val="eded8e"/>
                  </a:solidFill>
                  <a:latin typeface="Arial"/>
                </a:rPr>
                <a:t>”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1" name="Group 6"/>
          <p:cNvGrpSpPr/>
          <p:nvPr/>
        </p:nvGrpSpPr>
        <p:grpSpPr>
          <a:xfrm>
            <a:off x="756000" y="5734080"/>
            <a:ext cx="1643760" cy="869400"/>
            <a:chOff x="756000" y="5734080"/>
            <a:chExt cx="1643760" cy="869400"/>
          </a:xfrm>
        </p:grpSpPr>
        <p:sp>
          <p:nvSpPr>
            <p:cNvPr id="272" name="Line 7"/>
            <p:cNvSpPr/>
            <p:nvPr/>
          </p:nvSpPr>
          <p:spPr>
            <a:xfrm flipH="1" flipV="1">
              <a:off x="1585440" y="5734080"/>
              <a:ext cx="11520" cy="590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Text Box 8"/>
            <p:cNvSpPr/>
            <p:nvPr/>
          </p:nvSpPr>
          <p:spPr>
            <a:xfrm>
              <a:off x="756000" y="6296400"/>
              <a:ext cx="1643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Инфицирование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4" name="Group 9"/>
          <p:cNvGrpSpPr/>
          <p:nvPr/>
        </p:nvGrpSpPr>
        <p:grpSpPr>
          <a:xfrm>
            <a:off x="2771640" y="5157720"/>
            <a:ext cx="3230640" cy="678960"/>
            <a:chOff x="2771640" y="5157720"/>
            <a:chExt cx="3230640" cy="678960"/>
          </a:xfrm>
        </p:grpSpPr>
        <p:sp>
          <p:nvSpPr>
            <p:cNvPr id="275" name="AutoShape 10"/>
            <p:cNvSpPr/>
            <p:nvPr/>
          </p:nvSpPr>
          <p:spPr>
            <a:xfrm rot="16200000">
              <a:off x="4220280" y="3709080"/>
              <a:ext cx="333360" cy="3230640"/>
            </a:xfrm>
            <a:custGeom>
              <a:avLst/>
              <a:gdLst>
                <a:gd name="textAreaLeft" fmla="*/ 213120 w 333360"/>
                <a:gd name="textAreaRight" fmla="*/ 333720 w 333360"/>
                <a:gd name="textAreaTop" fmla="*/ 84960 h 3230640"/>
                <a:gd name="textAreaBottom" fmla="*/ 3145680 h 3230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11"/>
                    <a:pt x="10800" y="1822"/>
                  </a:cubicBezTo>
                  <a:lnTo>
                    <a:pt x="10800" y="8631"/>
                  </a:lnTo>
                  <a:cubicBezTo>
                    <a:pt x="10800" y="9542"/>
                    <a:pt x="5400" y="10453"/>
                    <a:pt x="0" y="10453"/>
                  </a:cubicBezTo>
                  <a:cubicBezTo>
                    <a:pt x="5400" y="10453"/>
                    <a:pt x="10800" y="11364"/>
                    <a:pt x="10800" y="12275"/>
                  </a:cubicBezTo>
                  <a:lnTo>
                    <a:pt x="10800" y="19778"/>
                  </a:lnTo>
                  <a:cubicBezTo>
                    <a:pt x="10800" y="20689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Text Box 11"/>
            <p:cNvSpPr/>
            <p:nvPr/>
          </p:nvSpPr>
          <p:spPr>
            <a:xfrm>
              <a:off x="3000600" y="5529600"/>
              <a:ext cx="2689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eded8e"/>
                  </a:solidFill>
                  <a:latin typeface="Arial"/>
                </a:rPr>
                <a:t>Асимптоматический период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7" name="Group 12"/>
          <p:cNvGrpSpPr/>
          <p:nvPr/>
        </p:nvGrpSpPr>
        <p:grpSpPr>
          <a:xfrm>
            <a:off x="5765040" y="5157720"/>
            <a:ext cx="1860120" cy="833400"/>
            <a:chOff x="5765040" y="5157720"/>
            <a:chExt cx="1860120" cy="833400"/>
          </a:xfrm>
        </p:grpSpPr>
        <p:sp>
          <p:nvSpPr>
            <p:cNvPr id="278" name="AutoShape 13"/>
            <p:cNvSpPr/>
            <p:nvPr/>
          </p:nvSpPr>
          <p:spPr>
            <a:xfrm rot="16200000">
              <a:off x="6528960" y="4703400"/>
              <a:ext cx="333360" cy="1242000"/>
            </a:xfrm>
            <a:custGeom>
              <a:avLst/>
              <a:gdLst>
                <a:gd name="textAreaLeft" fmla="*/ 213120 w 333360"/>
                <a:gd name="textAreaRight" fmla="*/ 333720 w 333360"/>
                <a:gd name="textAreaTop" fmla="*/ 32760 h 1242000"/>
                <a:gd name="textAreaBottom" fmla="*/ 1209240 h 124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11"/>
                    <a:pt x="10800" y="1822"/>
                  </a:cubicBezTo>
                  <a:lnTo>
                    <a:pt x="10800" y="8631"/>
                  </a:lnTo>
                  <a:cubicBezTo>
                    <a:pt x="10800" y="9542"/>
                    <a:pt x="5400" y="10453"/>
                    <a:pt x="0" y="10453"/>
                  </a:cubicBezTo>
                  <a:cubicBezTo>
                    <a:pt x="5400" y="10453"/>
                    <a:pt x="10800" y="11364"/>
                    <a:pt x="10800" y="12275"/>
                  </a:cubicBezTo>
                  <a:lnTo>
                    <a:pt x="10800" y="19778"/>
                  </a:lnTo>
                  <a:cubicBezTo>
                    <a:pt x="10800" y="20689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Text Box 14"/>
            <p:cNvSpPr/>
            <p:nvPr/>
          </p:nvSpPr>
          <p:spPr>
            <a:xfrm>
              <a:off x="5765040" y="5470920"/>
              <a:ext cx="1860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eded8e"/>
                  </a:solidFill>
                  <a:latin typeface="Arial"/>
                </a:rPr>
                <a:t>Связанная с ВИЧ </a:t>
              </a:r>
              <a:br>
                <a:rPr sz="1400"/>
              </a:br>
              <a:r>
                <a:rPr b="1" lang="ru-RU" sz="1400" spc="-1" strike="noStrike">
                  <a:solidFill>
                    <a:srgbClr val="eded8e"/>
                  </a:solidFill>
                  <a:latin typeface="Arial"/>
                </a:rPr>
                <a:t>болезнь или СПИД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0" name="Group 15"/>
          <p:cNvGrpSpPr/>
          <p:nvPr/>
        </p:nvGrpSpPr>
        <p:grpSpPr>
          <a:xfrm>
            <a:off x="7451640" y="5516640"/>
            <a:ext cx="1239840" cy="1026360"/>
            <a:chOff x="7451640" y="5516640"/>
            <a:chExt cx="1239840" cy="1026360"/>
          </a:xfrm>
        </p:grpSpPr>
        <p:sp>
          <p:nvSpPr>
            <p:cNvPr id="281" name="Line 16"/>
            <p:cNvSpPr/>
            <p:nvPr/>
          </p:nvSpPr>
          <p:spPr>
            <a:xfrm flipH="1" flipV="1">
              <a:off x="8059680" y="5516640"/>
              <a:ext cx="1080" cy="631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Text Box 17"/>
            <p:cNvSpPr/>
            <p:nvPr/>
          </p:nvSpPr>
          <p:spPr>
            <a:xfrm>
              <a:off x="7451640" y="6022800"/>
              <a:ext cx="1239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Летальный </a:t>
              </a:r>
              <a:br>
                <a:rPr sz="1400"/>
              </a:b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исход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3" name="Group 18"/>
          <p:cNvGrpSpPr/>
          <p:nvPr/>
        </p:nvGrpSpPr>
        <p:grpSpPr>
          <a:xfrm>
            <a:off x="2484360" y="1312920"/>
            <a:ext cx="4520880" cy="580680"/>
            <a:chOff x="2484360" y="1312920"/>
            <a:chExt cx="4520880" cy="580680"/>
          </a:xfrm>
        </p:grpSpPr>
        <p:sp>
          <p:nvSpPr>
            <p:cNvPr id="284" name="Rectangle 19"/>
            <p:cNvSpPr/>
            <p:nvPr/>
          </p:nvSpPr>
          <p:spPr>
            <a:xfrm>
              <a:off x="2484360" y="1341000"/>
              <a:ext cx="452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Line 20"/>
            <p:cNvSpPr/>
            <p:nvPr/>
          </p:nvSpPr>
          <p:spPr>
            <a:xfrm>
              <a:off x="2634480" y="1602360"/>
              <a:ext cx="6076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Line 21"/>
            <p:cNvSpPr/>
            <p:nvPr/>
          </p:nvSpPr>
          <p:spPr>
            <a:xfrm>
              <a:off x="4779000" y="1602360"/>
              <a:ext cx="6076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Text Box 22"/>
            <p:cNvSpPr/>
            <p:nvPr/>
          </p:nvSpPr>
          <p:spPr>
            <a:xfrm>
              <a:off x="2856240" y="1312920"/>
              <a:ext cx="1953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вирусная нагрузк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Text Box 23"/>
            <p:cNvSpPr/>
            <p:nvPr/>
          </p:nvSpPr>
          <p:spPr>
            <a:xfrm>
              <a:off x="5437080" y="1312920"/>
              <a:ext cx="1415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антитела к ВИЧ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9" name="Line 24"/>
          <p:cNvSpPr/>
          <p:nvPr/>
        </p:nvSpPr>
        <p:spPr>
          <a:xfrm flipV="1">
            <a:off x="5364000" y="1916280"/>
            <a:ext cx="79380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Line 25"/>
          <p:cNvSpPr/>
          <p:nvPr/>
        </p:nvSpPr>
        <p:spPr>
          <a:xfrm flipV="1">
            <a:off x="3203640" y="1844280"/>
            <a:ext cx="50472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РАЗВИТИЕ ВИЧ-ИНФЕКЦ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Гипотезы происхождения ВИЧ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Африканский след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Американская» или «Пентагоновская» верс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Обезьянья» теор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50920" y="54936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СТАДИИ ВИЧ-ИНФЕК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395280" y="1773360"/>
          <a:ext cx="8291520" cy="381636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728720"/>
                <a:gridCol w="1800360"/>
                <a:gridCol w="1809720"/>
              </a:tblGrid>
              <a:tr h="138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Острая инфекц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ОИ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Асимптомная инфекция (вирусоноси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тельство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АИ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ерсистирующая генерализованная лимфаденопат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ПГЛ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Ассоциированный симптомокомплекс (пре-СПИД, САК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СПИ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3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Острые респираторные заболевания – 3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Отсутствуют клинические проявл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Увеличение не менее 2-х лимфоузлов разных групп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86d1ec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отеря вес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86d1ec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Лихорад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86d1ec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Диаре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86d1ec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Хроническая       устало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86d1ec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Грибковые, вирусные, бактериальные поражения и др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Заболевания, вызванные микроорганизмам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вирусами, бактериями, грибками и др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4" name="Text Box 55"/>
          <p:cNvSpPr/>
          <p:nvPr/>
        </p:nvSpPr>
        <p:spPr>
          <a:xfrm>
            <a:off x="971640" y="5950080"/>
            <a:ext cx="3600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00"/>
                </a:solidFill>
                <a:latin typeface="Arial"/>
              </a:rPr>
              <a:t>От двух-трех лет до десяти-пятнадцати лет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ЛАБОРАТОРНАЯ ДИАГНОСТИКА</a:t>
            </a:r>
            <a:br>
              <a:rPr sz="2800"/>
            </a:b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ВИЧ-ИНФЕК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3848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ыявление в кров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антител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 ВИЧ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ИФ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И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ыявление в крови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ВИ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Ц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AutoShape 5"/>
          <p:cNvSpPr/>
          <p:nvPr/>
        </p:nvSpPr>
        <p:spPr>
          <a:xfrm rot="5400000">
            <a:off x="6342840" y="2953440"/>
            <a:ext cx="976320" cy="486000"/>
          </a:xfrm>
          <a:prstGeom prst="rightArrow">
            <a:avLst>
              <a:gd name="adj1" fmla="val 26148"/>
              <a:gd name="adj2" fmla="val 50306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AutoShape 6"/>
          <p:cNvSpPr/>
          <p:nvPr/>
        </p:nvSpPr>
        <p:spPr>
          <a:xfrm rot="5400000">
            <a:off x="1878840" y="2953440"/>
            <a:ext cx="976320" cy="486000"/>
          </a:xfrm>
          <a:prstGeom prst="rightArrow">
            <a:avLst>
              <a:gd name="adj1" fmla="val 26148"/>
              <a:gd name="adj2" fmla="val 50306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ОЦИАЛЬНЫЕ АСПЕКТ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ВИЧ-ИНФЕК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ИЧ-инфекция и зако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следствия ВИЧ-инфек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филактика ВИЧ-инфек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семирный день профилактики СПИ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ормирование гуманного отношения 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ИЧ-инфицированны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ВИЧ-ИНФЕКЦИЯ И ЗАКО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сеобщая декларация прав человека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сеобщая декларация прав человека, принятая на третьей сессии Генеральной Ассамблеи ООН 10 декабря 1948 г., в статьях 1, 2, 7, 12, 22, 25 провозгласила равенство всех перед законом, защиту от какой-либо дискриминации, произвольного вмешательства в личную жизнь, а также право на социальное обеспечение и обслуживание, медицинский уход в случае болезни или инвалидности всех без исключен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Конституция Республики Беларус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Закон «О здравоохранени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Закон «О санитарно-эпидемическом благополучии населения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Закон «О государственных пособиях семьям, воспитывающих детей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Закон «О донорстве крови и ее компонентов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Уголовный кодекс Республики Беларус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2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2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3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3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0"/>
                            </p:stCondLst>
                            <p:childTnLst>
                              <p:par>
                                <p:cTn id="23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3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3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6000"/>
                            </p:stCondLst>
                            <p:childTnLst>
                              <p:par>
                                <p:cTn id="23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3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7000"/>
                            </p:stCondLst>
                            <p:childTnLst>
                              <p:par>
                                <p:cTn id="24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3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3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нституция Республики Беларусь, подчеркнув, что человек, его жизнь и здоровье признаются наивысшими социальными ценностями, гарантировала в статьях 45, 46, 47 все перечисленные прав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юдям, живущим с ВИЧ/СПИД, гарантированы права, предусмотренные Конституци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title"/>
          </p:nvPr>
        </p:nvSpPr>
        <p:spPr>
          <a:xfrm>
            <a:off x="539280" y="404280"/>
            <a:ext cx="8147160" cy="10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Конституция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Республики Беларусь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ОСЛЕДСТВИЯ ЭПИДЕМИИ 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ВИЧ-ИНФЕК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Демографические (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снижение рождаемости, повышение смертности, уменьшение продолжительности жизни до 40 лет, рост диспропорции половой структуры: превышение числа женщин над мужчинами в репродуктивном возрасте, уменьшение числа рождений здоровых детей, увеличение числа детей-сирот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Социально-экономические (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снижение численности населения трудоспособного возраста, падение трудовых ресурсов, падение доходов у больных с ВИЧ\СПИД из-за снижения трудоспособности, увеличение расходов на лечение, затраты на лабораторную диагностику, возрастание нагрузки на работающее население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Психологические (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боязнь открытия ВИЧ-статуса, вопросы дискриминации, проблемы взаимоотношений с родственниками и другим окружением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557360"/>
            <a:ext cx="8229600" cy="27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ПРОФИЛАКТИКА</a:t>
            </a:r>
            <a:br>
              <a:rPr sz="5400"/>
            </a:b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 ВИЧ-ИНФЕКЦИИ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Первичная профилакти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Рассчитана на все здоровое население и включает проведение информационно-просветительских программ, направленных на сохранение здоровья (предупреждение заболеваний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МЕРЫ ПРОФИЛАКТИКИ </a:t>
            </a:r>
            <a:br>
              <a:rPr sz="3600"/>
            </a:b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ВИЧ-ИНФЕКЦ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На государственном уровн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Медицинские меры профилакт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Личные меры профилакт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одавляющее большинство молодых людей – 91% не допускают для себя возможности заражения ВИЧ или считают ее маловероятной, т.е. относится к проблеме ВИЧ/СПИД недостаточно серьезно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История возникнове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5 июня 1981 года, Лос-Анджелес, 5 случаев воспаления легки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Через месяц – 26 случаев, через 6 месяцев – сотни случае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1985 г. – 10 000 случаев ВИЧ-инфек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Целью информационно-образовательной работы является повышение уровня информированности населения, в том числе молодежи по проблеме ВИЧ/СПИД, формирование навыков охранительного поведения, стремление к здоровому образу жизн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МЕРОПРИЯТИЯ  ПО ПРОФИЛАКТИКЕ ВИЧ-ИНФЕКЦИИ СРЕДИ МОЛОДЕЖИ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6fc0e"/>
                </a:solidFill>
                <a:latin typeface="Arial"/>
              </a:rPr>
              <a:t>Ведущая роль в доведении знаний до молодёжи по профилактике ВИЧ-инфекции принадлежит Министерству образования, Министерству культуры, Министерству информации, Белтелерадиокомпании во взаимодействии с Министерством здравоохранения и общественными организация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Всемирная кампания против СПИД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6868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Памятные да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 декабря – Всемирный день профилактики СПИ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-е воскресение мая – Международный день памяти жертв СПИ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История проведения Всемирного дня профилактики СПИД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1981 года проводится Всемирный день профилактики СПИД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зависимости от ситуации и проблем по ВИЧ/СПИД в мире, определяется девиз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08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Мероприятия ко Всемирному дню профилактики СПИ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то можно сделать в рамках Всемирного дня профилактики СПИД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вести семинар, конференци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рганизовать концерт, дискотеку, вечер или другое культурно-зрелищное мероприят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вести конкурс агитбрига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формить стен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здать тематическую выставку рисунков, плакатов, стенгазет или фоторабо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рганизовать просмотр видеоматериалов по проблеме ВИЧ/СПИ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готовить театрализованное представл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рганизовать и провести спортивное мероприят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нять участие в районном конкурсе по теме ВИЧ/СПИ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вести единый классный час (тематический день, урок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Красная лента – Международный символ борьбы со СПИДом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енточка цвета крови, свернутая петелькой, присутствует на эмблемах всех организаций, связанных с эпидемией ВИЧ/СПИД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от символ всемирного антиспидовского движения придумал художник Франк Мур в апреле 1991 год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асная ленточка стала всемирным символом борьбы со СПИДом и солидарности с теми, кого затронула эта проблем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МЕТОД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Лекция (5% усвоения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Чтение (10% усвоения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Аудио-визуальные средства (20% усвоения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Наглядные пособия (30% усвоения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Обсуждение в группах (50% усвоения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Обучение практикой действия (70% усвоения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Выступление в роли обучающего (90% усвоения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БЩИЕ ПОДХОДЫ К РАБОТЕ ПО ДОНЕСЕНИЮ ЗНАНИЙ ПО ПРОБЛЕМЕ ВИЧ/СПИД ДО УЧАЩЕЙСЯ МОЛОДЕЖ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Половозрастной и индивидуальный подход </a:t>
            </a: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(готовность аудитории воспринимать информацию; это зависит от позиции родителей, самой молодежи, учителей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Научность, объективность, достоверность </a:t>
            </a: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(научные данные, не д.б. искажения, сенсаций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Доступность </a:t>
            </a: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(д.б. понятным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Наглядность </a:t>
            </a: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(схемы, рисунки, диаграммы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Системность и последовательность </a:t>
            </a: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(не разовое мероприятие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Рациональное сочетание коллективных, групповых, индивидуальных форм и методов </a:t>
            </a: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(беседы, рассказ, игры, викторины, малые и большие группы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Ответственность организаторов </a:t>
            </a: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(компетентные, подготовленные лиц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4811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Создание единой системы профилактической работы </a:t>
            </a: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(учебно-воспитательное учреждение+семья+с.м.и.+учреждения досуга и т.д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WordArt 2"/>
          <p:cNvSpPr txBox="1"/>
          <p:nvPr/>
        </p:nvSpPr>
        <p:spPr>
          <a:xfrm>
            <a:off x="1476360" y="1844640"/>
            <a:ext cx="640872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ВНИМАНИЕ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strips dir="rd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ПЕРВООТКРЫВАТЕЛИ  ВИ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3" descr="галло"/>
          <p:cNvPicPr/>
          <p:nvPr/>
        </p:nvPicPr>
        <p:blipFill>
          <a:blip r:embed="rId1"/>
          <a:stretch/>
        </p:blipFill>
        <p:spPr>
          <a:xfrm>
            <a:off x="971640" y="907920"/>
            <a:ext cx="3382920" cy="43927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монтанье"/>
          <p:cNvPicPr/>
          <p:nvPr/>
        </p:nvPicPr>
        <p:blipFill>
          <a:blip r:embed="rId2"/>
          <a:stretch/>
        </p:blipFill>
        <p:spPr>
          <a:xfrm>
            <a:off x="5003640" y="907920"/>
            <a:ext cx="3311640" cy="439272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5"/>
          <p:cNvSpPr/>
          <p:nvPr/>
        </p:nvSpPr>
        <p:spPr>
          <a:xfrm rot="1167000">
            <a:off x="4817520" y="4852800"/>
            <a:ext cx="3246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ahoma"/>
              </a:rPr>
              <a:t>Люк</a:t>
            </a: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3300"/>
                </a:solidFill>
                <a:latin typeface="Tahoma"/>
              </a:rPr>
              <a:t>Монтанье</a:t>
            </a:r>
            <a:r>
              <a:rPr b="0" lang="ru-RU" sz="2400" spc="-1" strike="noStrike">
                <a:solidFill>
                  <a:srgbClr val="ff3300"/>
                </a:solidFill>
                <a:latin typeface="Tahoma"/>
              </a:rPr>
              <a:t> (Франци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6"/>
          <p:cNvSpPr/>
          <p:nvPr/>
        </p:nvSpPr>
        <p:spPr>
          <a:xfrm rot="1167000">
            <a:off x="366480" y="4851000"/>
            <a:ext cx="3246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ahoma"/>
              </a:rPr>
              <a:t>Роберт Галло</a:t>
            </a:r>
            <a:r>
              <a:rPr b="0" lang="ru-RU" sz="2400" spc="-1" strike="noStrike">
                <a:solidFill>
                  <a:srgbClr val="ff3300"/>
                </a:solidFill>
                <a:latin typeface="Tahoma"/>
              </a:rPr>
              <a:t> (СШ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9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611280" y="907560"/>
            <a:ext cx="80755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140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Arial"/>
              </a:rPr>
              <a:t>ВИЧ-инфекция –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неизлечимое, длительно протекающее инфекционное заболевание, при котором поражается и медленно разрушается иммунная (защитная) система челове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SzPct val="1140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Arial"/>
              </a:rPr>
              <a:t>ВИЧ-инфицированные лица, зараженные вирусом иммунодефицита человека. К категории ВИЧ-инфицированных относятся как лица без клинических проявлений (носители ВИЧ-инфекции), так и больные СПИД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SzPct val="1140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Arial"/>
              </a:rPr>
              <a:t>СПИД (синдром приобретенного иммунодефицита человека) – конечная стадия развития ВИЧ-инфекци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ТРОЕНИЕ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ВИ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3" descr="вирус"/>
          <p:cNvPicPr/>
          <p:nvPr/>
        </p:nvPicPr>
        <p:blipFill>
          <a:blip r:embed="rId1"/>
          <a:stretch/>
        </p:blipFill>
        <p:spPr>
          <a:xfrm>
            <a:off x="1476360" y="620640"/>
            <a:ext cx="5761080" cy="6237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6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УСТОЙЧИВОСТЬ ВИ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324000" y="1125360"/>
          <a:ext cx="8291520" cy="5193000"/>
        </p:xfrm>
        <a:graphic>
          <a:graphicData uri="http://schemas.openxmlformats.org/drawingml/2006/table">
            <a:tbl>
              <a:tblPr/>
              <a:tblGrid>
                <a:gridCol w="4146480"/>
                <a:gridCol w="414504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При температуре +100 </a:t>
                      </a: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</a:t>
                      </a: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ВИЧ погибает за 1 минуту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0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При температуре +56 </a:t>
                      </a: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</a:t>
                      </a: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ВИЧ погибает за 30 мину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0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УФ и γ-излучение в дозах для стерилизац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ВИЧ устойчи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0"/>
                    </a:solidFill>
                  </a:tcPr>
                </a:tc>
              </a:tr>
              <a:tr h="91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Хлорсодержащие дезинфектант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Инактивируется в течение 10мину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0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,5% лизо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Инактивируется в течение 10 мину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0"/>
                    </a:solidFill>
                  </a:tcPr>
                </a:tc>
              </a:tr>
              <a:tr h="8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% фено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Инактивируется в течение 20 мину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80"/>
                    </a:solidFill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ИММУННАЯ СИСТЕ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Иммунная систем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– это главное защитное средство организма против чужеродных агентов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Для их нейтрализации иммунная система вырабатывает антитела и активизирует специальные клетки крови, которые убивают и удаляют чужеродные микроорганизм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ФУНКЦИИ ИММУННОЙ СИСТЕМ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Замена состарившихся клет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Защита организма от проникновения чужеродных агентов – вирусов, бактерий, гриб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«Ремонт» участков нашего те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9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9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9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4T13:09:05Z</dcterms:created>
  <dc:creator>BRUTSKAYA</dc:creator>
  <dc:description/>
  <dc:language>en-US</dc:language>
  <cp:lastModifiedBy>Деканат</cp:lastModifiedBy>
  <dcterms:modified xsi:type="dcterms:W3CDTF">1999-12-31T21:54:42Z</dcterms:modified>
  <cp:revision>97</cp:revision>
  <dc:subject/>
  <dc:title>Слайд 1</dc:title>
</cp:coreProperties>
</file>